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4B472-1442-4584-9C9F-C22138C04B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49200" y="372996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749FE-7BD2-446A-A3C6-7810A31C15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920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0548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3D8A4-DCB2-486D-A4EA-824D23D5DA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57920" y="114300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66280" y="114300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49200" y="372996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57920" y="372996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66280" y="372996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5D80B-B4E3-4B05-A6E0-4DEBBEEFEA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BF2AC-49C7-4A7C-ABA1-6598847452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CD742-08E1-4F94-8335-F194FB58A2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B2BB4-39E4-4448-B645-7AE05EE236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F41E0-E1E4-4D4E-9721-EFCBA9E11F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48840" y="15192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10966-72C7-4C11-9C24-21A619178E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4920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35165-880A-4A8C-945A-A259BC1EBA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0548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56F13-5E97-46B7-8008-193C2F3CCE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9200" y="372996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7338E-A777-4632-B301-B6461B503F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28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616960" y="6622560"/>
            <a:ext cx="457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F480B-6475-4BB8-AC76-0B27907FF51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4"/>
          <p:cNvSpPr/>
          <p:nvPr/>
        </p:nvSpPr>
        <p:spPr>
          <a:xfrm>
            <a:off x="0" y="857160"/>
            <a:ext cx="8879040" cy="0"/>
          </a:xfrm>
          <a:prstGeom prst="line">
            <a:avLst/>
          </a:prstGeom>
          <a:ln w="28440">
            <a:solidFill>
              <a:srgbClr val="fbb0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0"/>
          <p:cNvSpPr/>
          <p:nvPr/>
        </p:nvSpPr>
        <p:spPr>
          <a:xfrm>
            <a:off x="8118000" y="285840"/>
            <a:ext cx="104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-Training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3" descr="Officile"/>
          <p:cNvPicPr/>
          <p:nvPr/>
        </p:nvPicPr>
        <p:blipFill>
          <a:blip r:embed="rId2"/>
          <a:stretch/>
        </p:blipFill>
        <p:spPr>
          <a:xfrm>
            <a:off x="0" y="6265800"/>
            <a:ext cx="9144000" cy="425520"/>
          </a:xfrm>
          <a:prstGeom prst="rect">
            <a:avLst/>
          </a:prstGeom>
          <a:ln w="0">
            <a:noFill/>
          </a:ln>
        </p:spPr>
      </p:pic>
      <p:sp>
        <p:nvSpPr>
          <p:cNvPr id="6" name="Text Box 14"/>
          <p:cNvSpPr/>
          <p:nvPr/>
        </p:nvSpPr>
        <p:spPr>
          <a:xfrm>
            <a:off x="8336880" y="115920"/>
            <a:ext cx="60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-CSF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02920" y="3212640"/>
            <a:ext cx="6550200" cy="808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3200" spc="-1" strike="noStrike">
                <a:solidFill>
                  <a:srgbClr val="00528e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528e"/>
                </a:solidFill>
                <a:latin typeface="Arial"/>
              </a:rPr>
              <a:t>Serial Peripheral Interface (SPI)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528e"/>
                </a:solidFill>
                <a:latin typeface="Arial"/>
              </a:rPr>
              <a:t>Data Frame Format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 flipV="1" rot="5400000">
            <a:off x="916560" y="3698640"/>
            <a:ext cx="1629000" cy="1376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cccc">
                  <a:alpha val="10196"/>
                </a:srgbClr>
              </a:gs>
              <a:gs pos="100000">
                <a:srgbClr val="7ddfd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1273320" y="3602160"/>
            <a:ext cx="8776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Verdana"/>
              </a:rPr>
              <a:t>Mast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Logo_ST"/>
          <p:cNvPicPr/>
          <p:nvPr/>
        </p:nvPicPr>
        <p:blipFill>
          <a:blip r:embed="rId1"/>
          <a:stretch/>
        </p:blipFill>
        <p:spPr>
          <a:xfrm>
            <a:off x="1352520" y="4146480"/>
            <a:ext cx="650880" cy="503280"/>
          </a:xfrm>
          <a:prstGeom prst="rect">
            <a:avLst/>
          </a:prstGeom>
          <a:ln w="0">
            <a:noFill/>
          </a:ln>
        </p:spPr>
      </p:pic>
      <p:sp>
        <p:nvSpPr>
          <p:cNvPr id="48" name="AutoShape 7"/>
          <p:cNvSpPr/>
          <p:nvPr/>
        </p:nvSpPr>
        <p:spPr>
          <a:xfrm rot="5400000">
            <a:off x="2369520" y="3904920"/>
            <a:ext cx="108000" cy="8892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8"/>
          <p:cNvSpPr/>
          <p:nvPr/>
        </p:nvSpPr>
        <p:spPr>
          <a:xfrm rot="5400000">
            <a:off x="2373480" y="4213800"/>
            <a:ext cx="109440" cy="8892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9"/>
          <p:cNvSpPr/>
          <p:nvPr/>
        </p:nvSpPr>
        <p:spPr>
          <a:xfrm rot="5400000">
            <a:off x="2373480" y="4826520"/>
            <a:ext cx="109440" cy="8892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0"/>
          <p:cNvSpPr/>
          <p:nvPr/>
        </p:nvSpPr>
        <p:spPr>
          <a:xfrm rot="5400000">
            <a:off x="2380680" y="4530600"/>
            <a:ext cx="109440" cy="9036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2063880" y="3906720"/>
            <a:ext cx="36324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Verdana"/>
              </a:rPr>
              <a:t>SC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2033640" y="4202280"/>
            <a:ext cx="38412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Verdana"/>
              </a:rPr>
              <a:t>MIS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2023920" y="4503600"/>
            <a:ext cx="4431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Verdana"/>
              </a:rPr>
              <a:t>MOS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2062080" y="4799160"/>
            <a:ext cx="3412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Verdana"/>
              </a:rPr>
              <a:t>NS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5"/>
          <p:cNvSpPr/>
          <p:nvPr/>
        </p:nvSpPr>
        <p:spPr>
          <a:xfrm>
            <a:off x="0" y="692280"/>
            <a:ext cx="42847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 marL="304920" indent="-304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100000"/>
              </a:lnSpc>
              <a:spcBef>
                <a:spcPts val="799"/>
              </a:spcBef>
              <a:buSzPct val="102837"/>
              <a:buBlip>
                <a:blip r:embed="rId2"/>
              </a:buBlip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Data frame format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53800">
              <a:lnSpc>
                <a:spcPct val="100000"/>
              </a:lnSpc>
              <a:spcBef>
                <a:spcPts val="700"/>
              </a:spcBef>
              <a:buSzPct val="102837"/>
              <a:buBlip>
                <a:blip r:embed="rId3"/>
              </a:buBlip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ogrammable data frame size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7440" indent="-253800">
              <a:lnSpc>
                <a:spcPct val="100000"/>
              </a:lnSpc>
              <a:spcBef>
                <a:spcPts val="700"/>
              </a:spcBef>
              <a:buSzPct val="102950"/>
              <a:buBlip>
                <a:blip r:embed="rId4"/>
              </a:buBlip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8- b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7440" indent="-253800">
              <a:lnSpc>
                <a:spcPct val="100000"/>
              </a:lnSpc>
              <a:spcBef>
                <a:spcPts val="700"/>
              </a:spcBef>
              <a:buSzPct val="102950"/>
              <a:buBlip>
                <a:blip r:embed="rId5"/>
              </a:buBlip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6-bi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53800">
              <a:lnSpc>
                <a:spcPct val="100000"/>
              </a:lnSpc>
              <a:spcBef>
                <a:spcPts val="700"/>
              </a:spcBef>
              <a:buSzPct val="102950"/>
              <a:buBlip>
                <a:blip r:embed="rId6"/>
              </a:buBlip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ogrammable data order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7440" indent="-253800">
              <a:lnSpc>
                <a:spcPct val="100000"/>
              </a:lnSpc>
              <a:spcBef>
                <a:spcPts val="700"/>
              </a:spcBef>
              <a:buSzPct val="102950"/>
              <a:buBlip>
                <a:blip r:embed="rId7"/>
              </a:buBlip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SB-firs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7440" indent="-253800">
              <a:lnSpc>
                <a:spcPct val="100000"/>
              </a:lnSpc>
              <a:spcBef>
                <a:spcPts val="700"/>
              </a:spcBef>
              <a:buSzPct val="102950"/>
              <a:buBlip>
                <a:blip r:embed="rId8"/>
              </a:buBlip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SB-fir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64" descr=""/>
          <p:cNvPicPr/>
          <p:nvPr/>
        </p:nvPicPr>
        <p:blipFill>
          <a:blip r:embed="rId9"/>
          <a:stretch/>
        </p:blipFill>
        <p:spPr>
          <a:xfrm>
            <a:off x="3708360" y="907920"/>
            <a:ext cx="523080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7772400" cy="69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28e"/>
                </a:solidFill>
                <a:latin typeface="Arial"/>
              </a:rPr>
              <a:t>SPI Features (1/2)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379440" y="1052640"/>
            <a:ext cx="8451720" cy="41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 marL="304920" indent="-304920">
              <a:lnSpc>
                <a:spcPct val="130000"/>
              </a:lnSpc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wo SPIs: SPI1 on high speed APB2 and SPI2 on low speed APB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130000"/>
              </a:lnSpc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 duplex synchronous transfers on 3 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130000"/>
              </a:lnSpc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x synchronous transfers on 2 lines with or without a bi-directional data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130000"/>
              </a:lnSpc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ogrammable data frame size 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- or 16-bit transfer frame format se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130000"/>
              </a:lnSpc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mable data order with MSB-first or LSB-first shif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130000"/>
              </a:lnSpc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ter or slave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130000"/>
              </a:lnSpc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ogrammable bit rate: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up to 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 MHz in Master/Slave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130000"/>
              </a:lnSpc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SS management by hardware or software for both master and slav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7772400" cy="69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28e"/>
                </a:solidFill>
                <a:latin typeface="Arial"/>
              </a:rPr>
              <a:t>SPI Features (2/2)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468360" y="1047600"/>
            <a:ext cx="8210520" cy="33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 marL="304920" indent="-304920">
              <a:lnSpc>
                <a:spcPct val="130000"/>
              </a:lnSpc>
              <a:spcBef>
                <a:spcPts val="6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mable clock polarity and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130000"/>
              </a:lnSpc>
              <a:spcBef>
                <a:spcPts val="6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dicated transmission and reception flags (Tx buffer Empty and Rx buffer Not Empty) with interrupt capabi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130000"/>
              </a:lnSpc>
              <a:spcBef>
                <a:spcPts val="6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 bus busy status f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130000"/>
              </a:lnSpc>
              <a:spcBef>
                <a:spcPts val="6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ware CRC feature for reliable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130000"/>
              </a:lnSpc>
              <a:spcBef>
                <a:spcPts val="6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for DMA Tx and Rx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130000"/>
              </a:lnSpc>
              <a:spcBef>
                <a:spcPts val="6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SPI has a DMA Tx and Rx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130000"/>
              </a:lnSpc>
              <a:spcBef>
                <a:spcPts val="6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528e"/>
                </a:solidFill>
                <a:latin typeface="Arial"/>
              </a:rPr>
              <a:t>Communication types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63" name="AutoShape 3"/>
          <p:cNvSpPr/>
          <p:nvPr/>
        </p:nvSpPr>
        <p:spPr>
          <a:xfrm rot="5400000">
            <a:off x="4936680" y="1581120"/>
            <a:ext cx="1627200" cy="1376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2a0d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bb0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5351400" y="1471680"/>
            <a:ext cx="8780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Verdana"/>
              </a:rPr>
              <a:t>Slav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Logo_ST"/>
          <p:cNvPicPr/>
          <p:nvPr/>
        </p:nvPicPr>
        <p:blipFill>
          <a:blip r:embed="rId1"/>
          <a:stretch/>
        </p:blipFill>
        <p:spPr>
          <a:xfrm>
            <a:off x="5451480" y="2014560"/>
            <a:ext cx="650880" cy="50472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6"/>
          <p:cNvSpPr/>
          <p:nvPr/>
        </p:nvSpPr>
        <p:spPr>
          <a:xfrm flipV="1" rot="5400000">
            <a:off x="5005440" y="1785960"/>
            <a:ext cx="108000" cy="9216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7"/>
          <p:cNvSpPr/>
          <p:nvPr/>
        </p:nvSpPr>
        <p:spPr>
          <a:xfrm flipV="1" rot="5400000">
            <a:off x="4999680" y="2097720"/>
            <a:ext cx="108000" cy="8748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8"/>
          <p:cNvSpPr/>
          <p:nvPr/>
        </p:nvSpPr>
        <p:spPr>
          <a:xfrm flipV="1" rot="5400000">
            <a:off x="4998240" y="2707920"/>
            <a:ext cx="111240" cy="8748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9"/>
          <p:cNvSpPr/>
          <p:nvPr/>
        </p:nvSpPr>
        <p:spPr>
          <a:xfrm flipV="1" rot="5400000">
            <a:off x="4991040" y="2413440"/>
            <a:ext cx="109800" cy="8748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5145120" y="1751040"/>
            <a:ext cx="363600" cy="1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Verdana"/>
              </a:rPr>
              <a:t>SC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5140440" y="2030400"/>
            <a:ext cx="38232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Verdana"/>
              </a:rPr>
              <a:t>MIS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5129280" y="2344680"/>
            <a:ext cx="3934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Verdana"/>
              </a:rPr>
              <a:t>MOS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5141880" y="2687760"/>
            <a:ext cx="34128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Verdana"/>
              </a:rPr>
              <a:t>NS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4"/>
          <p:cNvSpPr/>
          <p:nvPr/>
        </p:nvSpPr>
        <p:spPr>
          <a:xfrm flipV="1" rot="5400000">
            <a:off x="2844000" y="1576080"/>
            <a:ext cx="1629000" cy="1376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cccc">
                  <a:alpha val="10196"/>
                </a:srgbClr>
              </a:gs>
              <a:gs pos="100000">
                <a:srgbClr val="7ddfd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5"/>
          <p:cNvSpPr/>
          <p:nvPr/>
        </p:nvSpPr>
        <p:spPr>
          <a:xfrm>
            <a:off x="3200400" y="1479600"/>
            <a:ext cx="8794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Verdana"/>
              </a:rPr>
              <a:t>Mast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6" descr="Logo_ST"/>
          <p:cNvPicPr/>
          <p:nvPr/>
        </p:nvPicPr>
        <p:blipFill>
          <a:blip r:embed="rId2"/>
          <a:stretch/>
        </p:blipFill>
        <p:spPr>
          <a:xfrm>
            <a:off x="3279600" y="2023920"/>
            <a:ext cx="652680" cy="50328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17"/>
          <p:cNvSpPr/>
          <p:nvPr/>
        </p:nvSpPr>
        <p:spPr>
          <a:xfrm rot="5400000">
            <a:off x="4296600" y="1782000"/>
            <a:ext cx="108000" cy="9072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8"/>
          <p:cNvSpPr/>
          <p:nvPr/>
        </p:nvSpPr>
        <p:spPr>
          <a:xfrm rot="5400000">
            <a:off x="4300920" y="2091240"/>
            <a:ext cx="109440" cy="8892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9"/>
          <p:cNvSpPr/>
          <p:nvPr/>
        </p:nvSpPr>
        <p:spPr>
          <a:xfrm rot="5400000">
            <a:off x="4300920" y="2704320"/>
            <a:ext cx="109800" cy="8892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20"/>
          <p:cNvSpPr/>
          <p:nvPr/>
        </p:nvSpPr>
        <p:spPr>
          <a:xfrm rot="5400000">
            <a:off x="4308480" y="2408040"/>
            <a:ext cx="109440" cy="9072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1"/>
          <p:cNvSpPr/>
          <p:nvPr/>
        </p:nvSpPr>
        <p:spPr>
          <a:xfrm>
            <a:off x="4019400" y="1784520"/>
            <a:ext cx="363600" cy="1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Verdana"/>
              </a:rPr>
              <a:t>SC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2"/>
          <p:cNvSpPr/>
          <p:nvPr/>
        </p:nvSpPr>
        <p:spPr>
          <a:xfrm>
            <a:off x="3989520" y="2079720"/>
            <a:ext cx="38412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Verdana"/>
              </a:rPr>
              <a:t>MIS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3"/>
          <p:cNvSpPr/>
          <p:nvPr/>
        </p:nvSpPr>
        <p:spPr>
          <a:xfrm>
            <a:off x="3989520" y="2381400"/>
            <a:ext cx="3715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Verdana"/>
              </a:rPr>
              <a:t>MOS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4"/>
          <p:cNvSpPr/>
          <p:nvPr/>
        </p:nvSpPr>
        <p:spPr>
          <a:xfrm>
            <a:off x="4016520" y="2724120"/>
            <a:ext cx="3412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Verdana"/>
              </a:rPr>
              <a:t>NS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25"/>
          <p:cNvSpPr/>
          <p:nvPr/>
        </p:nvSpPr>
        <p:spPr>
          <a:xfrm flipH="1">
            <a:off x="4395600" y="1822320"/>
            <a:ext cx="61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6"/>
          <p:cNvSpPr/>
          <p:nvPr/>
        </p:nvSpPr>
        <p:spPr>
          <a:xfrm flipH="1">
            <a:off x="4395600" y="2131920"/>
            <a:ext cx="61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27"/>
          <p:cNvSpPr/>
          <p:nvPr/>
        </p:nvSpPr>
        <p:spPr>
          <a:xfrm flipH="1">
            <a:off x="4408560" y="2444760"/>
            <a:ext cx="58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8"/>
          <p:cNvSpPr/>
          <p:nvPr/>
        </p:nvSpPr>
        <p:spPr>
          <a:xfrm>
            <a:off x="324000" y="836640"/>
            <a:ext cx="712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 marL="304920" indent="-304920">
              <a:lnSpc>
                <a:spcPct val="15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ll Duplex Communicatio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9"/>
          <p:cNvSpPr/>
          <p:nvPr/>
        </p:nvSpPr>
        <p:spPr>
          <a:xfrm>
            <a:off x="4229280" y="3141720"/>
            <a:ext cx="1206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fr-FR" sz="1300" spc="-1" strike="noStrike">
                <a:solidFill>
                  <a:srgbClr val="000066"/>
                </a:solidFill>
                <a:latin typeface="Verdana"/>
              </a:rPr>
              <a:t>Full Duple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30"/>
          <p:cNvGrpSpPr/>
          <p:nvPr/>
        </p:nvGrpSpPr>
        <p:grpSpPr>
          <a:xfrm>
            <a:off x="4819680" y="2771640"/>
            <a:ext cx="182520" cy="222120"/>
            <a:chOff x="4819680" y="2771640"/>
            <a:chExt cx="182520" cy="222120"/>
          </a:xfrm>
        </p:grpSpPr>
        <p:grpSp>
          <p:nvGrpSpPr>
            <p:cNvPr id="91" name="Group 31"/>
            <p:cNvGrpSpPr/>
            <p:nvPr/>
          </p:nvGrpSpPr>
          <p:grpSpPr>
            <a:xfrm>
              <a:off x="4819680" y="2771640"/>
              <a:ext cx="182520" cy="222120"/>
              <a:chOff x="4819680" y="2771640"/>
              <a:chExt cx="182520" cy="222120"/>
            </a:xfrm>
          </p:grpSpPr>
          <p:grpSp>
            <p:nvGrpSpPr>
              <p:cNvPr id="92" name="Group 32"/>
              <p:cNvGrpSpPr/>
              <p:nvPr/>
            </p:nvGrpSpPr>
            <p:grpSpPr>
              <a:xfrm>
                <a:off x="4819680" y="2875680"/>
                <a:ext cx="182520" cy="118080"/>
                <a:chOff x="4819680" y="2875680"/>
                <a:chExt cx="182520" cy="118080"/>
              </a:xfrm>
            </p:grpSpPr>
            <p:sp>
              <p:nvSpPr>
                <p:cNvPr id="93" name="Line 33"/>
                <p:cNvSpPr/>
                <p:nvPr/>
              </p:nvSpPr>
              <p:spPr>
                <a:xfrm>
                  <a:off x="4845600" y="2915280"/>
                  <a:ext cx="1306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Line 34"/>
                <p:cNvSpPr/>
                <p:nvPr/>
              </p:nvSpPr>
              <p:spPr>
                <a:xfrm>
                  <a:off x="4872600" y="2954160"/>
                  <a:ext cx="774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Line 35"/>
                <p:cNvSpPr/>
                <p:nvPr/>
              </p:nvSpPr>
              <p:spPr>
                <a:xfrm>
                  <a:off x="4898160" y="2993760"/>
                  <a:ext cx="259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Line 36"/>
                <p:cNvSpPr/>
                <p:nvPr/>
              </p:nvSpPr>
              <p:spPr>
                <a:xfrm>
                  <a:off x="4819680" y="2875680"/>
                  <a:ext cx="1825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" name="Line 37"/>
              <p:cNvSpPr/>
              <p:nvPr/>
            </p:nvSpPr>
            <p:spPr>
              <a:xfrm>
                <a:off x="4911120" y="2771640"/>
                <a:ext cx="0" cy="8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" name="Line 38"/>
            <p:cNvSpPr/>
            <p:nvPr/>
          </p:nvSpPr>
          <p:spPr>
            <a:xfrm>
              <a:off x="4911480" y="2771640"/>
              <a:ext cx="8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39"/>
          <p:cNvGrpSpPr/>
          <p:nvPr/>
        </p:nvGrpSpPr>
        <p:grpSpPr>
          <a:xfrm>
            <a:off x="4395960" y="2460600"/>
            <a:ext cx="422640" cy="289080"/>
            <a:chOff x="4395960" y="2460600"/>
            <a:chExt cx="422640" cy="289080"/>
          </a:xfrm>
        </p:grpSpPr>
        <p:grpSp>
          <p:nvGrpSpPr>
            <p:cNvPr id="100" name="Group 40"/>
            <p:cNvGrpSpPr/>
            <p:nvPr/>
          </p:nvGrpSpPr>
          <p:grpSpPr>
            <a:xfrm>
              <a:off x="4424760" y="2460600"/>
              <a:ext cx="393840" cy="278280"/>
              <a:chOff x="4424760" y="2460600"/>
              <a:chExt cx="393840" cy="278280"/>
            </a:xfrm>
          </p:grpSpPr>
          <p:sp>
            <p:nvSpPr>
              <p:cNvPr id="101" name="Text Box 41"/>
              <p:cNvSpPr/>
              <p:nvPr/>
            </p:nvSpPr>
            <p:spPr>
              <a:xfrm>
                <a:off x="4424760" y="2460600"/>
                <a:ext cx="393840" cy="20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345960"/>
                    <a:tab algn="l" pos="692280"/>
                    <a:tab algn="l" pos="1038240"/>
                    <a:tab algn="l" pos="1384200"/>
                    <a:tab algn="l" pos="1730520"/>
                    <a:tab algn="l" pos="2076480"/>
                    <a:tab algn="l" pos="2422440"/>
                    <a:tab algn="l" pos="2768760"/>
                    <a:tab algn="l" pos="3114720"/>
                    <a:tab algn="l" pos="3460680"/>
                    <a:tab algn="l" pos="3807000"/>
                    <a:tab algn="l" pos="4152960"/>
                    <a:tab algn="l" pos="4498920"/>
                    <a:tab algn="l" pos="4844880"/>
                    <a:tab algn="l" pos="5191200"/>
                    <a:tab algn="l" pos="5537160"/>
                    <a:tab algn="l" pos="5883120"/>
                    <a:tab algn="l" pos="6229440"/>
                    <a:tab algn="l" pos="6575400"/>
                    <a:tab algn="l" pos="6921360"/>
                  </a:tabLst>
                </a:pPr>
                <a:r>
                  <a:rPr b="1" i="1" lang="en-US" sz="900" spc="-1" strike="noStrike">
                    <a:solidFill>
                      <a:srgbClr val="000000"/>
                    </a:solidFill>
                    <a:latin typeface="Verdana"/>
                  </a:rPr>
                  <a:t>V</a:t>
                </a:r>
                <a:r>
                  <a:rPr b="1" i="1" lang="en-US" sz="900" spc="-1" strike="noStrike" baseline="-25000">
                    <a:solidFill>
                      <a:srgbClr val="000000"/>
                    </a:solidFill>
                    <a:latin typeface="Verdana"/>
                  </a:rPr>
                  <a:t>DD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42"/>
              <p:cNvSpPr/>
              <p:nvPr/>
            </p:nvSpPr>
            <p:spPr>
              <a:xfrm>
                <a:off x="4654800" y="2651040"/>
                <a:ext cx="0" cy="87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Line 43"/>
              <p:cNvSpPr/>
              <p:nvPr/>
            </p:nvSpPr>
            <p:spPr>
              <a:xfrm>
                <a:off x="4482720" y="2645280"/>
                <a:ext cx="335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" name="Line 44"/>
            <p:cNvSpPr/>
            <p:nvPr/>
          </p:nvSpPr>
          <p:spPr>
            <a:xfrm>
              <a:off x="4395960" y="2749680"/>
              <a:ext cx="25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Text Box 28"/>
          <p:cNvSpPr/>
          <p:nvPr/>
        </p:nvSpPr>
        <p:spPr>
          <a:xfrm>
            <a:off x="250920" y="3573360"/>
            <a:ext cx="7129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 marL="304920" indent="-304920">
              <a:lnSpc>
                <a:spcPct val="15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mplex Communicatio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42"/>
          <p:cNvSpPr/>
          <p:nvPr/>
        </p:nvSpPr>
        <p:spPr>
          <a:xfrm>
            <a:off x="6093000" y="5299200"/>
            <a:ext cx="0" cy="495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43"/>
          <p:cNvSpPr/>
          <p:nvPr/>
        </p:nvSpPr>
        <p:spPr>
          <a:xfrm rot="5400000">
            <a:off x="5099040" y="4243320"/>
            <a:ext cx="1628640" cy="137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2a0d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bb0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4"/>
          <p:cNvSpPr/>
          <p:nvPr/>
        </p:nvSpPr>
        <p:spPr>
          <a:xfrm>
            <a:off x="5511960" y="4135320"/>
            <a:ext cx="87948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Slav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5" descr="Logo_ST"/>
          <p:cNvPicPr/>
          <p:nvPr/>
        </p:nvPicPr>
        <p:blipFill>
          <a:blip r:embed="rId5"/>
          <a:stretch/>
        </p:blipFill>
        <p:spPr>
          <a:xfrm>
            <a:off x="5613480" y="4678200"/>
            <a:ext cx="650880" cy="50328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46"/>
          <p:cNvSpPr/>
          <p:nvPr/>
        </p:nvSpPr>
        <p:spPr>
          <a:xfrm flipV="1" rot="5400000">
            <a:off x="5165640" y="4449600"/>
            <a:ext cx="109440" cy="9036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47"/>
          <p:cNvSpPr/>
          <p:nvPr/>
        </p:nvSpPr>
        <p:spPr>
          <a:xfrm flipV="1" rot="5400000">
            <a:off x="5163120" y="4759920"/>
            <a:ext cx="106560" cy="8892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48"/>
          <p:cNvSpPr/>
          <p:nvPr/>
        </p:nvSpPr>
        <p:spPr>
          <a:xfrm flipV="1" rot="5400000">
            <a:off x="5161680" y="5371200"/>
            <a:ext cx="109440" cy="8892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49"/>
          <p:cNvSpPr/>
          <p:nvPr/>
        </p:nvSpPr>
        <p:spPr>
          <a:xfrm flipV="1" rot="5400000">
            <a:off x="5154480" y="5076720"/>
            <a:ext cx="108000" cy="8892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5307120" y="4411800"/>
            <a:ext cx="363600" cy="1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SC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1"/>
          <p:cNvSpPr/>
          <p:nvPr/>
        </p:nvSpPr>
        <p:spPr>
          <a:xfrm>
            <a:off x="5300640" y="4692600"/>
            <a:ext cx="38412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MIS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2"/>
          <p:cNvSpPr/>
          <p:nvPr/>
        </p:nvSpPr>
        <p:spPr>
          <a:xfrm>
            <a:off x="5291280" y="5008680"/>
            <a:ext cx="3412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MOS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3"/>
          <p:cNvSpPr/>
          <p:nvPr/>
        </p:nvSpPr>
        <p:spPr>
          <a:xfrm>
            <a:off x="5305320" y="5351400"/>
            <a:ext cx="3412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NS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54"/>
          <p:cNvSpPr/>
          <p:nvPr/>
        </p:nvSpPr>
        <p:spPr>
          <a:xfrm flipV="1" rot="5400000">
            <a:off x="3005280" y="4240080"/>
            <a:ext cx="1630080" cy="1376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cccc">
                  <a:alpha val="10196"/>
                </a:srgbClr>
              </a:gs>
              <a:gs pos="100000">
                <a:srgbClr val="7ddfd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5"/>
          <p:cNvSpPr/>
          <p:nvPr/>
        </p:nvSpPr>
        <p:spPr>
          <a:xfrm>
            <a:off x="3362400" y="4141800"/>
            <a:ext cx="8776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Mast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6" descr="Logo_ST"/>
          <p:cNvPicPr/>
          <p:nvPr/>
        </p:nvPicPr>
        <p:blipFill>
          <a:blip r:embed="rId6"/>
          <a:stretch/>
        </p:blipFill>
        <p:spPr>
          <a:xfrm>
            <a:off x="3441600" y="4687920"/>
            <a:ext cx="652680" cy="503280"/>
          </a:xfrm>
          <a:prstGeom prst="rect">
            <a:avLst/>
          </a:prstGeom>
          <a:ln w="0">
            <a:noFill/>
          </a:ln>
        </p:spPr>
      </p:pic>
      <p:sp>
        <p:nvSpPr>
          <p:cNvPr id="121" name="AutoShape 57"/>
          <p:cNvSpPr/>
          <p:nvPr/>
        </p:nvSpPr>
        <p:spPr>
          <a:xfrm rot="5400000">
            <a:off x="4458600" y="4446360"/>
            <a:ext cx="108000" cy="8892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58"/>
          <p:cNvSpPr/>
          <p:nvPr/>
        </p:nvSpPr>
        <p:spPr>
          <a:xfrm rot="5400000">
            <a:off x="4463640" y="4754520"/>
            <a:ext cx="108000" cy="8892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59"/>
          <p:cNvSpPr/>
          <p:nvPr/>
        </p:nvSpPr>
        <p:spPr>
          <a:xfrm rot="5400000">
            <a:off x="4462920" y="5367960"/>
            <a:ext cx="109440" cy="8892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60"/>
          <p:cNvSpPr/>
          <p:nvPr/>
        </p:nvSpPr>
        <p:spPr>
          <a:xfrm rot="5400000">
            <a:off x="4470840" y="5072760"/>
            <a:ext cx="109440" cy="8892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1"/>
          <p:cNvSpPr/>
          <p:nvPr/>
        </p:nvSpPr>
        <p:spPr>
          <a:xfrm>
            <a:off x="4183200" y="4448160"/>
            <a:ext cx="36180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SC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2"/>
          <p:cNvSpPr/>
          <p:nvPr/>
        </p:nvSpPr>
        <p:spPr>
          <a:xfrm>
            <a:off x="4151160" y="4743360"/>
            <a:ext cx="38448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MIS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3"/>
          <p:cNvSpPr/>
          <p:nvPr/>
        </p:nvSpPr>
        <p:spPr>
          <a:xfrm>
            <a:off x="4143240" y="5043600"/>
            <a:ext cx="34128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MOS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4"/>
          <p:cNvSpPr/>
          <p:nvPr/>
        </p:nvSpPr>
        <p:spPr>
          <a:xfrm>
            <a:off x="4141800" y="5340240"/>
            <a:ext cx="3412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NS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5"/>
          <p:cNvSpPr/>
          <p:nvPr/>
        </p:nvSpPr>
        <p:spPr>
          <a:xfrm flipH="1">
            <a:off x="4556160" y="4486320"/>
            <a:ext cx="61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66"/>
          <p:cNvSpPr/>
          <p:nvPr/>
        </p:nvSpPr>
        <p:spPr>
          <a:xfrm flipH="1">
            <a:off x="4570560" y="5108400"/>
            <a:ext cx="58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7"/>
          <p:cNvSpPr/>
          <p:nvPr/>
        </p:nvSpPr>
        <p:spPr>
          <a:xfrm>
            <a:off x="4427640" y="5805360"/>
            <a:ext cx="147168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fr-FR" sz="1300" spc="-1" strike="noStrike">
                <a:solidFill>
                  <a:srgbClr val="000066"/>
                </a:solidFill>
                <a:latin typeface="Verdana"/>
              </a:rPr>
              <a:t>Rx Only </a:t>
            </a:r>
            <a:r>
              <a:rPr b="1" lang="fr-FR" sz="1100" spc="-1" strike="noStrike">
                <a:solidFill>
                  <a:srgbClr val="000066"/>
                </a:solidFill>
                <a:latin typeface="Verdana"/>
              </a:rPr>
              <a:t>(Slav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68"/>
          <p:cNvGrpSpPr/>
          <p:nvPr/>
        </p:nvGrpSpPr>
        <p:grpSpPr>
          <a:xfrm>
            <a:off x="4989600" y="5421240"/>
            <a:ext cx="182520" cy="222120"/>
            <a:chOff x="4989600" y="5421240"/>
            <a:chExt cx="182520" cy="222120"/>
          </a:xfrm>
        </p:grpSpPr>
        <p:grpSp>
          <p:nvGrpSpPr>
            <p:cNvPr id="133" name="Group 69"/>
            <p:cNvGrpSpPr/>
            <p:nvPr/>
          </p:nvGrpSpPr>
          <p:grpSpPr>
            <a:xfrm>
              <a:off x="4989600" y="5421240"/>
              <a:ext cx="182520" cy="222120"/>
              <a:chOff x="4989600" y="5421240"/>
              <a:chExt cx="182520" cy="222120"/>
            </a:xfrm>
          </p:grpSpPr>
          <p:grpSp>
            <p:nvGrpSpPr>
              <p:cNvPr id="134" name="Group 70"/>
              <p:cNvGrpSpPr/>
              <p:nvPr/>
            </p:nvGrpSpPr>
            <p:grpSpPr>
              <a:xfrm>
                <a:off x="4989600" y="5525280"/>
                <a:ext cx="182520" cy="118080"/>
                <a:chOff x="4989600" y="5525280"/>
                <a:chExt cx="182520" cy="118080"/>
              </a:xfrm>
            </p:grpSpPr>
            <p:sp>
              <p:nvSpPr>
                <p:cNvPr id="135" name="Line 71"/>
                <p:cNvSpPr/>
                <p:nvPr/>
              </p:nvSpPr>
              <p:spPr>
                <a:xfrm>
                  <a:off x="5015520" y="5564880"/>
                  <a:ext cx="1306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Line 72"/>
                <p:cNvSpPr/>
                <p:nvPr/>
              </p:nvSpPr>
              <p:spPr>
                <a:xfrm>
                  <a:off x="5042520" y="5603760"/>
                  <a:ext cx="774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Line 73"/>
                <p:cNvSpPr/>
                <p:nvPr/>
              </p:nvSpPr>
              <p:spPr>
                <a:xfrm>
                  <a:off x="5068080" y="5643360"/>
                  <a:ext cx="259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Line 74"/>
                <p:cNvSpPr/>
                <p:nvPr/>
              </p:nvSpPr>
              <p:spPr>
                <a:xfrm>
                  <a:off x="4989600" y="5525280"/>
                  <a:ext cx="1825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" name="Line 75"/>
              <p:cNvSpPr/>
              <p:nvPr/>
            </p:nvSpPr>
            <p:spPr>
              <a:xfrm>
                <a:off x="5081040" y="5421240"/>
                <a:ext cx="0" cy="8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Line 76"/>
            <p:cNvSpPr/>
            <p:nvPr/>
          </p:nvSpPr>
          <p:spPr>
            <a:xfrm>
              <a:off x="5081400" y="5421240"/>
              <a:ext cx="8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Text Box 77"/>
          <p:cNvSpPr/>
          <p:nvPr/>
        </p:nvSpPr>
        <p:spPr>
          <a:xfrm>
            <a:off x="4583160" y="5121360"/>
            <a:ext cx="40644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9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78"/>
          <p:cNvSpPr/>
          <p:nvPr/>
        </p:nvSpPr>
        <p:spPr>
          <a:xfrm>
            <a:off x="4689360" y="5311800"/>
            <a:ext cx="0" cy="8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79"/>
          <p:cNvSpPr/>
          <p:nvPr/>
        </p:nvSpPr>
        <p:spPr>
          <a:xfrm>
            <a:off x="4610160" y="5305320"/>
            <a:ext cx="15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80"/>
          <p:cNvSpPr/>
          <p:nvPr/>
        </p:nvSpPr>
        <p:spPr>
          <a:xfrm>
            <a:off x="4570560" y="5410080"/>
            <a:ext cx="11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81"/>
          <p:cNvGrpSpPr/>
          <p:nvPr/>
        </p:nvGrpSpPr>
        <p:grpSpPr>
          <a:xfrm>
            <a:off x="4471920" y="4746600"/>
            <a:ext cx="84240" cy="95400"/>
            <a:chOff x="4471920" y="4746600"/>
            <a:chExt cx="84240" cy="95400"/>
          </a:xfrm>
        </p:grpSpPr>
        <p:sp>
          <p:nvSpPr>
            <p:cNvPr id="146" name="Line 82"/>
            <p:cNvSpPr/>
            <p:nvPr/>
          </p:nvSpPr>
          <p:spPr>
            <a:xfrm>
              <a:off x="4471920" y="4746600"/>
              <a:ext cx="84240" cy="954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83"/>
            <p:cNvSpPr/>
            <p:nvPr/>
          </p:nvSpPr>
          <p:spPr>
            <a:xfrm flipH="1">
              <a:off x="4471920" y="4746600"/>
              <a:ext cx="84240" cy="954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84"/>
          <p:cNvGrpSpPr/>
          <p:nvPr/>
        </p:nvGrpSpPr>
        <p:grpSpPr>
          <a:xfrm>
            <a:off x="5170320" y="4759200"/>
            <a:ext cx="84240" cy="93960"/>
            <a:chOff x="5170320" y="4759200"/>
            <a:chExt cx="84240" cy="93960"/>
          </a:xfrm>
        </p:grpSpPr>
        <p:sp>
          <p:nvSpPr>
            <p:cNvPr id="149" name="Line 85"/>
            <p:cNvSpPr/>
            <p:nvPr/>
          </p:nvSpPr>
          <p:spPr>
            <a:xfrm>
              <a:off x="5170320" y="4759200"/>
              <a:ext cx="84240" cy="93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86"/>
            <p:cNvSpPr/>
            <p:nvPr/>
          </p:nvSpPr>
          <p:spPr>
            <a:xfrm flipH="1">
              <a:off x="5170320" y="4759200"/>
              <a:ext cx="84240" cy="93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528e"/>
                </a:solidFill>
                <a:latin typeface="Arial"/>
              </a:rPr>
              <a:t>NSS Hardware &amp; Software Management</a:t>
            </a:r>
            <a:endParaRPr b="1" lang="en-US" sz="28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52" name="Line 3"/>
          <p:cNvSpPr/>
          <p:nvPr/>
        </p:nvSpPr>
        <p:spPr>
          <a:xfrm>
            <a:off x="7893000" y="4387680"/>
            <a:ext cx="0" cy="495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1030320" y="1305000"/>
            <a:ext cx="150192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fr-FR" sz="1300" spc="-1" strike="noStrike">
                <a:solidFill>
                  <a:srgbClr val="000066"/>
                </a:solidFill>
                <a:latin typeface="Verdana"/>
              </a:rPr>
              <a:t>Hardware NS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5"/>
          <p:cNvGrpSpPr/>
          <p:nvPr/>
        </p:nvGrpSpPr>
        <p:grpSpPr>
          <a:xfrm>
            <a:off x="1079640" y="1832040"/>
            <a:ext cx="1452600" cy="3908160"/>
            <a:chOff x="1079640" y="1832040"/>
            <a:chExt cx="1452600" cy="3908160"/>
          </a:xfrm>
        </p:grpSpPr>
        <p:sp>
          <p:nvSpPr>
            <p:cNvPr id="155" name="AutoShape 6"/>
            <p:cNvSpPr/>
            <p:nvPr/>
          </p:nvSpPr>
          <p:spPr>
            <a:xfrm>
              <a:off x="1082520" y="1832040"/>
              <a:ext cx="1449720" cy="1550880"/>
            </a:xfrm>
            <a:custGeom>
              <a:avLst/>
              <a:gdLst>
                <a:gd name="textAreaLeft" fmla="*/ 70560 w 1449720"/>
                <a:gd name="textAreaRight" fmla="*/ 1379160 w 1449720"/>
                <a:gd name="textAreaTop" fmla="*/ 70560 h 1550880"/>
                <a:gd name="textAreaBottom" fmla="*/ 1480320 h 1550880"/>
              </a:gdLst>
              <a:ahLst/>
              <a:rect l="textAreaLeft" t="textAreaTop" r="textAreaRight" b="textAreaBottom"/>
              <a:pathLst>
                <a:path w="21600" h="23107">
                  <a:moveTo>
                    <a:pt x="3600" y="0"/>
                  </a:moveTo>
                  <a:arcTo wR="3600" hR="3600" stAng="16200000" swAng="-5400000"/>
                  <a:lnTo>
                    <a:pt x="0" y="19507"/>
                  </a:lnTo>
                  <a:arcTo wR="3600" hR="3600" stAng="10800000" swAng="-5400000"/>
                  <a:lnTo>
                    <a:pt x="18000" y="2310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32a0d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fbb0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200" rIns="97200" tIns="48600" bIns="486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7"/>
            <p:cNvSpPr/>
            <p:nvPr/>
          </p:nvSpPr>
          <p:spPr>
            <a:xfrm>
              <a:off x="1344600" y="1851120"/>
              <a:ext cx="88092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45960"/>
                  <a:tab algn="l" pos="692280"/>
                  <a:tab algn="l" pos="1038240"/>
                  <a:tab algn="l" pos="1384200"/>
                  <a:tab algn="l" pos="1730520"/>
                  <a:tab algn="l" pos="2076480"/>
                  <a:tab algn="l" pos="2422440"/>
                  <a:tab algn="l" pos="2768760"/>
                  <a:tab algn="l" pos="3114720"/>
                  <a:tab algn="l" pos="3460680"/>
                  <a:tab algn="l" pos="3807000"/>
                  <a:tab algn="l" pos="4152960"/>
                  <a:tab algn="l" pos="4498920"/>
                  <a:tab algn="l" pos="4844880"/>
                  <a:tab algn="l" pos="5191200"/>
                  <a:tab algn="l" pos="5537160"/>
                  <a:tab algn="l" pos="5883120"/>
                  <a:tab algn="l" pos="6229440"/>
                  <a:tab algn="l" pos="6575400"/>
                  <a:tab algn="l" pos="692136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Slav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7" name="Picture 8" descr="Logo_ST"/>
            <p:cNvPicPr/>
            <p:nvPr/>
          </p:nvPicPr>
          <p:blipFill>
            <a:blip r:embed="rId1"/>
            <a:stretch/>
          </p:blipFill>
          <p:spPr>
            <a:xfrm>
              <a:off x="1467000" y="2338560"/>
              <a:ext cx="6523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AutoShape 9"/>
            <p:cNvSpPr/>
            <p:nvPr/>
          </p:nvSpPr>
          <p:spPr>
            <a:xfrm flipV="1">
              <a:off x="1370160" y="3336840"/>
              <a:ext cx="96840" cy="10008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360 h 100080"/>
                <a:gd name="textAreaBottom" fmla="*/ 100800 h 100080"/>
              </a:gdLst>
              <a:ahLst/>
              <a:rect l="textAreaLeft" t="textAreaTop" r="textAreaRight" b="textAreaBottom"/>
              <a:pathLst>
                <a:path w="21600" h="22320">
                  <a:moveTo>
                    <a:pt x="0" y="0"/>
                  </a:moveTo>
                  <a:arcTo wR="0" hR="0" stAng="16200000" swAng="-5400000"/>
                  <a:lnTo>
                    <a:pt x="0" y="22320"/>
                  </a:lnTo>
                  <a:arcTo wR="0" hR="0" stAng="10800000" swAng="-5400000"/>
                  <a:lnTo>
                    <a:pt x="21600" y="2232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AutoShape 10"/>
            <p:cNvSpPr/>
            <p:nvPr/>
          </p:nvSpPr>
          <p:spPr>
            <a:xfrm flipV="1">
              <a:off x="1644480" y="3343320"/>
              <a:ext cx="96840" cy="10008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360 h 100080"/>
                <a:gd name="textAreaBottom" fmla="*/ 100800 h 100080"/>
              </a:gdLst>
              <a:ahLst/>
              <a:rect l="textAreaLeft" t="textAreaTop" r="textAreaRight" b="textAreaBottom"/>
              <a:pathLst>
                <a:path w="21600" h="22320">
                  <a:moveTo>
                    <a:pt x="0" y="0"/>
                  </a:moveTo>
                  <a:arcTo wR="0" hR="0" stAng="16200000" swAng="-5400000"/>
                  <a:lnTo>
                    <a:pt x="0" y="22320"/>
                  </a:lnTo>
                  <a:arcTo wR="0" hR="0" stAng="10800000" swAng="-5400000"/>
                  <a:lnTo>
                    <a:pt x="21600" y="2232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11"/>
            <p:cNvSpPr/>
            <p:nvPr/>
          </p:nvSpPr>
          <p:spPr>
            <a:xfrm flipV="1">
              <a:off x="2189160" y="3343320"/>
              <a:ext cx="96840" cy="10008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360 h 100080"/>
                <a:gd name="textAreaBottom" fmla="*/ 100800 h 100080"/>
              </a:gdLst>
              <a:ahLst/>
              <a:rect l="textAreaLeft" t="textAreaTop" r="textAreaRight" b="textAreaBottom"/>
              <a:pathLst>
                <a:path w="21600" h="22320">
                  <a:moveTo>
                    <a:pt x="0" y="0"/>
                  </a:moveTo>
                  <a:arcTo wR="0" hR="0" stAng="16200000" swAng="-5400000"/>
                  <a:lnTo>
                    <a:pt x="0" y="22320"/>
                  </a:lnTo>
                  <a:arcTo wR="0" hR="0" stAng="10800000" swAng="-5400000"/>
                  <a:lnTo>
                    <a:pt x="21600" y="2232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AutoShape 12"/>
            <p:cNvSpPr/>
            <p:nvPr/>
          </p:nvSpPr>
          <p:spPr>
            <a:xfrm flipV="1">
              <a:off x="1927080" y="3351240"/>
              <a:ext cx="96840" cy="10008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360 h 100080"/>
                <a:gd name="textAreaBottom" fmla="*/ 100800 h 100080"/>
              </a:gdLst>
              <a:ahLst/>
              <a:rect l="textAreaLeft" t="textAreaTop" r="textAreaRight" b="textAreaBottom"/>
              <a:pathLst>
                <a:path w="21600" h="22320">
                  <a:moveTo>
                    <a:pt x="0" y="0"/>
                  </a:moveTo>
                  <a:arcTo wR="0" hR="0" stAng="16200000" swAng="-5400000"/>
                  <a:lnTo>
                    <a:pt x="0" y="22320"/>
                  </a:lnTo>
                  <a:arcTo wR="0" hR="0" stAng="10800000" swAng="-5400000"/>
                  <a:lnTo>
                    <a:pt x="21600" y="2232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13"/>
            <p:cNvSpPr/>
            <p:nvPr/>
          </p:nvSpPr>
          <p:spPr>
            <a:xfrm>
              <a:off x="1268280" y="3170160"/>
              <a:ext cx="363600" cy="1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45960"/>
                  <a:tab algn="l" pos="692280"/>
                  <a:tab algn="l" pos="1038240"/>
                  <a:tab algn="l" pos="1384200"/>
                  <a:tab algn="l" pos="1730520"/>
                  <a:tab algn="l" pos="2076480"/>
                  <a:tab algn="l" pos="2422440"/>
                  <a:tab algn="l" pos="2768760"/>
                  <a:tab algn="l" pos="3114720"/>
                  <a:tab algn="l" pos="3460680"/>
                  <a:tab algn="l" pos="3807000"/>
                  <a:tab algn="l" pos="4152960"/>
                  <a:tab algn="l" pos="4498920"/>
                  <a:tab algn="l" pos="4844880"/>
                  <a:tab algn="l" pos="5191200"/>
                  <a:tab algn="l" pos="5537160"/>
                  <a:tab algn="l" pos="5883120"/>
                  <a:tab algn="l" pos="6229440"/>
                  <a:tab algn="l" pos="6575400"/>
                  <a:tab algn="l" pos="692136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SCK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4"/>
            <p:cNvSpPr/>
            <p:nvPr/>
          </p:nvSpPr>
          <p:spPr>
            <a:xfrm>
              <a:off x="1536840" y="3174840"/>
              <a:ext cx="38412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45960"/>
                  <a:tab algn="l" pos="692280"/>
                  <a:tab algn="l" pos="1038240"/>
                  <a:tab algn="l" pos="1384200"/>
                  <a:tab algn="l" pos="1730520"/>
                  <a:tab algn="l" pos="2076480"/>
                  <a:tab algn="l" pos="2422440"/>
                  <a:tab algn="l" pos="2768760"/>
                  <a:tab algn="l" pos="3114720"/>
                  <a:tab algn="l" pos="3460680"/>
                  <a:tab algn="l" pos="3807000"/>
                  <a:tab algn="l" pos="4152960"/>
                  <a:tab algn="l" pos="4498920"/>
                  <a:tab algn="l" pos="4844880"/>
                  <a:tab algn="l" pos="5191200"/>
                  <a:tab algn="l" pos="5537160"/>
                  <a:tab algn="l" pos="5883120"/>
                  <a:tab algn="l" pos="6229440"/>
                  <a:tab algn="l" pos="6575400"/>
                  <a:tab algn="l" pos="692136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MIS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5"/>
            <p:cNvSpPr/>
            <p:nvPr/>
          </p:nvSpPr>
          <p:spPr>
            <a:xfrm>
              <a:off x="1822320" y="3168720"/>
              <a:ext cx="343080" cy="1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45960"/>
                  <a:tab algn="l" pos="692280"/>
                  <a:tab algn="l" pos="1038240"/>
                  <a:tab algn="l" pos="1384200"/>
                  <a:tab algn="l" pos="1730520"/>
                  <a:tab algn="l" pos="2076480"/>
                  <a:tab algn="l" pos="2422440"/>
                  <a:tab algn="l" pos="2768760"/>
                  <a:tab algn="l" pos="3114720"/>
                  <a:tab algn="l" pos="3460680"/>
                  <a:tab algn="l" pos="3807000"/>
                  <a:tab algn="l" pos="4152960"/>
                  <a:tab algn="l" pos="4498920"/>
                  <a:tab algn="l" pos="4844880"/>
                  <a:tab algn="l" pos="5191200"/>
                  <a:tab algn="l" pos="5537160"/>
                  <a:tab algn="l" pos="5883120"/>
                  <a:tab algn="l" pos="6229440"/>
                  <a:tab algn="l" pos="6575400"/>
                  <a:tab algn="l" pos="692136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MOS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16"/>
            <p:cNvSpPr/>
            <p:nvPr/>
          </p:nvSpPr>
          <p:spPr>
            <a:xfrm>
              <a:off x="2128680" y="3170160"/>
              <a:ext cx="34164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45960"/>
                  <a:tab algn="l" pos="692280"/>
                  <a:tab algn="l" pos="1038240"/>
                  <a:tab algn="l" pos="1384200"/>
                  <a:tab algn="l" pos="1730520"/>
                  <a:tab algn="l" pos="2076480"/>
                  <a:tab algn="l" pos="2422440"/>
                  <a:tab algn="l" pos="2768760"/>
                  <a:tab algn="l" pos="3114720"/>
                  <a:tab algn="l" pos="3460680"/>
                  <a:tab algn="l" pos="3807000"/>
                  <a:tab algn="l" pos="4152960"/>
                  <a:tab algn="l" pos="4498920"/>
                  <a:tab algn="l" pos="4844880"/>
                  <a:tab algn="l" pos="5191200"/>
                  <a:tab algn="l" pos="5537160"/>
                  <a:tab algn="l" pos="5883120"/>
                  <a:tab algn="l" pos="6229440"/>
                  <a:tab algn="l" pos="6575400"/>
                  <a:tab algn="l" pos="692136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NS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AutoShape 17"/>
            <p:cNvSpPr/>
            <p:nvPr/>
          </p:nvSpPr>
          <p:spPr>
            <a:xfrm flipV="1">
              <a:off x="1079640" y="4188600"/>
              <a:ext cx="1447560" cy="1551240"/>
            </a:xfrm>
            <a:custGeom>
              <a:avLst/>
              <a:gdLst>
                <a:gd name="textAreaLeft" fmla="*/ 70560 w 1447560"/>
                <a:gd name="textAreaRight" fmla="*/ 1377000 w 1447560"/>
                <a:gd name="textAreaTop" fmla="*/ 70560 h 1551240"/>
                <a:gd name="textAreaBottom" fmla="*/ 1480680 h 1551240"/>
              </a:gdLst>
              <a:ahLst/>
              <a:rect l="textAreaLeft" t="textAreaTop" r="textAreaRight" b="textAreaBottom"/>
              <a:pathLst>
                <a:path w="21600" h="23147">
                  <a:moveTo>
                    <a:pt x="3600" y="0"/>
                  </a:moveTo>
                  <a:arcTo wR="3600" hR="3600" stAng="16200000" swAng="-5400000"/>
                  <a:lnTo>
                    <a:pt x="0" y="19547"/>
                  </a:lnTo>
                  <a:arcTo wR="3600" hR="3600" stAng="10800000" swAng="-5400000"/>
                  <a:lnTo>
                    <a:pt x="18000" y="2314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33cccc">
                    <a:alpha val="10196"/>
                  </a:srgbClr>
                </a:gs>
                <a:gs pos="100000">
                  <a:srgbClr val="a5e8e8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200" rIns="97200" tIns="48600" bIns="486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18"/>
            <p:cNvSpPr/>
            <p:nvPr/>
          </p:nvSpPr>
          <p:spPr>
            <a:xfrm>
              <a:off x="1341360" y="5418000"/>
              <a:ext cx="87948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45960"/>
                  <a:tab algn="l" pos="692280"/>
                  <a:tab algn="l" pos="1038240"/>
                  <a:tab algn="l" pos="1384200"/>
                  <a:tab algn="l" pos="1730520"/>
                  <a:tab algn="l" pos="2076480"/>
                  <a:tab algn="l" pos="2422440"/>
                  <a:tab algn="l" pos="2768760"/>
                  <a:tab algn="l" pos="3114720"/>
                  <a:tab algn="l" pos="3460680"/>
                  <a:tab algn="l" pos="3807000"/>
                  <a:tab algn="l" pos="4152960"/>
                  <a:tab algn="l" pos="4498920"/>
                  <a:tab algn="l" pos="4844880"/>
                  <a:tab algn="l" pos="5191200"/>
                  <a:tab algn="l" pos="5537160"/>
                  <a:tab algn="l" pos="5883120"/>
                  <a:tab algn="l" pos="6229440"/>
                  <a:tab algn="l" pos="6575400"/>
                  <a:tab algn="l" pos="692136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Mas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8" name="Picture 19" descr="Logo_ST"/>
            <p:cNvPicPr/>
            <p:nvPr/>
          </p:nvPicPr>
          <p:blipFill>
            <a:blip r:embed="rId2"/>
            <a:stretch/>
          </p:blipFill>
          <p:spPr>
            <a:xfrm>
              <a:off x="1461960" y="4729320"/>
              <a:ext cx="6526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AutoShape 20"/>
            <p:cNvSpPr/>
            <p:nvPr/>
          </p:nvSpPr>
          <p:spPr>
            <a:xfrm>
              <a:off x="1365120" y="4135320"/>
              <a:ext cx="96840" cy="10008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21600" h="22320">
                  <a:moveTo>
                    <a:pt x="0" y="0"/>
                  </a:moveTo>
                  <a:arcTo wR="0" hR="0" stAng="16200000" swAng="-5400000"/>
                  <a:lnTo>
                    <a:pt x="0" y="22320"/>
                  </a:lnTo>
                  <a:arcTo wR="0" hR="0" stAng="10800000" swAng="-5400000"/>
                  <a:lnTo>
                    <a:pt x="21600" y="2232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AutoShape 21"/>
            <p:cNvSpPr/>
            <p:nvPr/>
          </p:nvSpPr>
          <p:spPr>
            <a:xfrm>
              <a:off x="1639800" y="4129200"/>
              <a:ext cx="96840" cy="10008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21600" h="22320">
                  <a:moveTo>
                    <a:pt x="0" y="0"/>
                  </a:moveTo>
                  <a:arcTo wR="0" hR="0" stAng="16200000" swAng="-5400000"/>
                  <a:lnTo>
                    <a:pt x="0" y="22320"/>
                  </a:lnTo>
                  <a:arcTo wR="0" hR="0" stAng="10800000" swAng="-5400000"/>
                  <a:lnTo>
                    <a:pt x="21600" y="2232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Shape 22"/>
            <p:cNvSpPr/>
            <p:nvPr/>
          </p:nvSpPr>
          <p:spPr>
            <a:xfrm>
              <a:off x="2184480" y="4129200"/>
              <a:ext cx="96840" cy="10008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21600" h="22320">
                  <a:moveTo>
                    <a:pt x="0" y="0"/>
                  </a:moveTo>
                  <a:arcTo wR="0" hR="0" stAng="16200000" swAng="-5400000"/>
                  <a:lnTo>
                    <a:pt x="0" y="22320"/>
                  </a:lnTo>
                  <a:arcTo wR="0" hR="0" stAng="10800000" swAng="-5400000"/>
                  <a:lnTo>
                    <a:pt x="21600" y="2232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utoShape 23"/>
            <p:cNvSpPr/>
            <p:nvPr/>
          </p:nvSpPr>
          <p:spPr>
            <a:xfrm>
              <a:off x="1922400" y="4121280"/>
              <a:ext cx="96840" cy="9972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21600" h="22240">
                  <a:moveTo>
                    <a:pt x="0" y="0"/>
                  </a:moveTo>
                  <a:arcTo wR="0" hR="0" stAng="16200000" swAng="-5400000"/>
                  <a:lnTo>
                    <a:pt x="0" y="22240"/>
                  </a:lnTo>
                  <a:arcTo wR="0" hR="0" stAng="10800000" swAng="-5400000"/>
                  <a:lnTo>
                    <a:pt x="21600" y="2224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24"/>
            <p:cNvSpPr/>
            <p:nvPr/>
          </p:nvSpPr>
          <p:spPr>
            <a:xfrm>
              <a:off x="1252440" y="4287960"/>
              <a:ext cx="36360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45960"/>
                  <a:tab algn="l" pos="692280"/>
                  <a:tab algn="l" pos="1038240"/>
                  <a:tab algn="l" pos="1384200"/>
                  <a:tab algn="l" pos="1730520"/>
                  <a:tab algn="l" pos="2076480"/>
                  <a:tab algn="l" pos="2422440"/>
                  <a:tab algn="l" pos="2768760"/>
                  <a:tab algn="l" pos="3114720"/>
                  <a:tab algn="l" pos="3460680"/>
                  <a:tab algn="l" pos="3807000"/>
                  <a:tab algn="l" pos="4152960"/>
                  <a:tab algn="l" pos="4498920"/>
                  <a:tab algn="l" pos="4844880"/>
                  <a:tab algn="l" pos="5191200"/>
                  <a:tab algn="l" pos="5537160"/>
                  <a:tab algn="l" pos="5883120"/>
                  <a:tab algn="l" pos="6229440"/>
                  <a:tab algn="l" pos="6575400"/>
                  <a:tab algn="l" pos="692136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SCK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25"/>
            <p:cNvSpPr/>
            <p:nvPr/>
          </p:nvSpPr>
          <p:spPr>
            <a:xfrm>
              <a:off x="1521000" y="4292640"/>
              <a:ext cx="38412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45960"/>
                  <a:tab algn="l" pos="692280"/>
                  <a:tab algn="l" pos="1038240"/>
                  <a:tab algn="l" pos="1384200"/>
                  <a:tab algn="l" pos="1730520"/>
                  <a:tab algn="l" pos="2076480"/>
                  <a:tab algn="l" pos="2422440"/>
                  <a:tab algn="l" pos="2768760"/>
                  <a:tab algn="l" pos="3114720"/>
                  <a:tab algn="l" pos="3460680"/>
                  <a:tab algn="l" pos="3807000"/>
                  <a:tab algn="l" pos="4152960"/>
                  <a:tab algn="l" pos="4498920"/>
                  <a:tab algn="l" pos="4844880"/>
                  <a:tab algn="l" pos="5191200"/>
                  <a:tab algn="l" pos="5537160"/>
                  <a:tab algn="l" pos="5883120"/>
                  <a:tab algn="l" pos="6229440"/>
                  <a:tab algn="l" pos="6575400"/>
                  <a:tab algn="l" pos="692136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MIS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26"/>
            <p:cNvSpPr/>
            <p:nvPr/>
          </p:nvSpPr>
          <p:spPr>
            <a:xfrm>
              <a:off x="1806480" y="4286160"/>
              <a:ext cx="34128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45960"/>
                  <a:tab algn="l" pos="692280"/>
                  <a:tab algn="l" pos="1038240"/>
                  <a:tab algn="l" pos="1384200"/>
                  <a:tab algn="l" pos="1730520"/>
                  <a:tab algn="l" pos="2076480"/>
                  <a:tab algn="l" pos="2422440"/>
                  <a:tab algn="l" pos="2768760"/>
                  <a:tab algn="l" pos="3114720"/>
                  <a:tab algn="l" pos="3460680"/>
                  <a:tab algn="l" pos="3807000"/>
                  <a:tab algn="l" pos="4152960"/>
                  <a:tab algn="l" pos="4498920"/>
                  <a:tab algn="l" pos="4844880"/>
                  <a:tab algn="l" pos="5191200"/>
                  <a:tab algn="l" pos="5537160"/>
                  <a:tab algn="l" pos="5883120"/>
                  <a:tab algn="l" pos="6229440"/>
                  <a:tab algn="l" pos="6575400"/>
                  <a:tab algn="l" pos="692136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MOS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27"/>
            <p:cNvSpPr/>
            <p:nvPr/>
          </p:nvSpPr>
          <p:spPr>
            <a:xfrm>
              <a:off x="2112840" y="4287960"/>
              <a:ext cx="34128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45960"/>
                  <a:tab algn="l" pos="692280"/>
                  <a:tab algn="l" pos="1038240"/>
                  <a:tab algn="l" pos="1384200"/>
                  <a:tab algn="l" pos="1730520"/>
                  <a:tab algn="l" pos="2076480"/>
                  <a:tab algn="l" pos="2422440"/>
                  <a:tab algn="l" pos="2768760"/>
                  <a:tab algn="l" pos="3114720"/>
                  <a:tab algn="l" pos="3460680"/>
                  <a:tab algn="l" pos="3807000"/>
                  <a:tab algn="l" pos="4152960"/>
                  <a:tab algn="l" pos="4498920"/>
                  <a:tab algn="l" pos="4844880"/>
                  <a:tab algn="l" pos="5191200"/>
                  <a:tab algn="l" pos="5537160"/>
                  <a:tab algn="l" pos="5883120"/>
                  <a:tab algn="l" pos="6229440"/>
                  <a:tab algn="l" pos="6575400"/>
                  <a:tab algn="l" pos="692136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NS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" name="Group 28"/>
            <p:cNvGrpSpPr/>
            <p:nvPr/>
          </p:nvGrpSpPr>
          <p:grpSpPr>
            <a:xfrm>
              <a:off x="2152800" y="3438360"/>
              <a:ext cx="180720" cy="222120"/>
              <a:chOff x="2152800" y="3438360"/>
              <a:chExt cx="180720" cy="222120"/>
            </a:xfrm>
          </p:grpSpPr>
          <p:grpSp>
            <p:nvGrpSpPr>
              <p:cNvPr id="178" name="Group 29"/>
              <p:cNvGrpSpPr/>
              <p:nvPr/>
            </p:nvGrpSpPr>
            <p:grpSpPr>
              <a:xfrm>
                <a:off x="2152800" y="3542400"/>
                <a:ext cx="180720" cy="118080"/>
                <a:chOff x="2152800" y="3542400"/>
                <a:chExt cx="180720" cy="118080"/>
              </a:xfrm>
            </p:grpSpPr>
            <p:sp>
              <p:nvSpPr>
                <p:cNvPr id="179" name="Line 30"/>
                <p:cNvSpPr/>
                <p:nvPr/>
              </p:nvSpPr>
              <p:spPr>
                <a:xfrm>
                  <a:off x="2178360" y="3582000"/>
                  <a:ext cx="1292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Line 31"/>
                <p:cNvSpPr/>
                <p:nvPr/>
              </p:nvSpPr>
              <p:spPr>
                <a:xfrm>
                  <a:off x="2205000" y="3620880"/>
                  <a:ext cx="766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Line 32"/>
                <p:cNvSpPr/>
                <p:nvPr/>
              </p:nvSpPr>
              <p:spPr>
                <a:xfrm>
                  <a:off x="2230560" y="3660480"/>
                  <a:ext cx="255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Line 33"/>
                <p:cNvSpPr/>
                <p:nvPr/>
              </p:nvSpPr>
              <p:spPr>
                <a:xfrm>
                  <a:off x="2152800" y="3542400"/>
                  <a:ext cx="1807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Line 34"/>
              <p:cNvSpPr/>
              <p:nvPr/>
            </p:nvSpPr>
            <p:spPr>
              <a:xfrm>
                <a:off x="2243520" y="3438360"/>
                <a:ext cx="0" cy="8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Text Box 35"/>
            <p:cNvSpPr/>
            <p:nvPr/>
          </p:nvSpPr>
          <p:spPr>
            <a:xfrm>
              <a:off x="2128680" y="3851280"/>
              <a:ext cx="32544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45960"/>
                  <a:tab algn="l" pos="692280"/>
                  <a:tab algn="l" pos="1038240"/>
                  <a:tab algn="l" pos="1384200"/>
                  <a:tab algn="l" pos="1730520"/>
                  <a:tab algn="l" pos="2076480"/>
                  <a:tab algn="l" pos="2422440"/>
                  <a:tab algn="l" pos="2768760"/>
                  <a:tab algn="l" pos="3114720"/>
                  <a:tab algn="l" pos="3460680"/>
                  <a:tab algn="l" pos="3807000"/>
                  <a:tab algn="l" pos="4152960"/>
                  <a:tab algn="l" pos="4498920"/>
                  <a:tab algn="l" pos="4844880"/>
                  <a:tab algn="l" pos="5191200"/>
                  <a:tab algn="l" pos="5537160"/>
                  <a:tab algn="l" pos="5883120"/>
                  <a:tab algn="l" pos="6229440"/>
                  <a:tab algn="l" pos="6575400"/>
                  <a:tab algn="l" pos="692136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i="1" lang="en-US" sz="900" spc="-1" strike="noStrike" baseline="-25000">
                  <a:solidFill>
                    <a:srgbClr val="000000"/>
                  </a:solidFill>
                  <a:latin typeface="Arial"/>
                </a:rPr>
                <a:t>D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36"/>
            <p:cNvSpPr/>
            <p:nvPr/>
          </p:nvSpPr>
          <p:spPr>
            <a:xfrm>
              <a:off x="2235240" y="4043520"/>
              <a:ext cx="0" cy="8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37"/>
            <p:cNvSpPr/>
            <p:nvPr/>
          </p:nvSpPr>
          <p:spPr>
            <a:xfrm>
              <a:off x="2155680" y="4037040"/>
              <a:ext cx="15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38"/>
            <p:cNvSpPr/>
            <p:nvPr/>
          </p:nvSpPr>
          <p:spPr>
            <a:xfrm>
              <a:off x="1409760" y="3443400"/>
              <a:ext cx="0" cy="69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39"/>
            <p:cNvSpPr/>
            <p:nvPr/>
          </p:nvSpPr>
          <p:spPr>
            <a:xfrm>
              <a:off x="1684440" y="3443400"/>
              <a:ext cx="0" cy="69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40"/>
            <p:cNvSpPr/>
            <p:nvPr/>
          </p:nvSpPr>
          <p:spPr>
            <a:xfrm>
              <a:off x="1962000" y="3457440"/>
              <a:ext cx="0" cy="66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41"/>
          <p:cNvGrpSpPr/>
          <p:nvPr/>
        </p:nvGrpSpPr>
        <p:grpSpPr>
          <a:xfrm>
            <a:off x="4492800" y="1305000"/>
            <a:ext cx="1500120" cy="4435200"/>
            <a:chOff x="4492800" y="1305000"/>
            <a:chExt cx="1500120" cy="4435200"/>
          </a:xfrm>
        </p:grpSpPr>
        <p:sp>
          <p:nvSpPr>
            <p:cNvPr id="191" name="Text Box 42"/>
            <p:cNvSpPr/>
            <p:nvPr/>
          </p:nvSpPr>
          <p:spPr>
            <a:xfrm>
              <a:off x="4492800" y="1305000"/>
              <a:ext cx="1500120" cy="29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360" rIns="81360" tIns="40680" bIns="406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fr-FR" sz="1400" spc="-1" strike="noStrike">
                  <a:solidFill>
                    <a:srgbClr val="000066"/>
                  </a:solidFill>
                  <a:latin typeface="Verdana"/>
                </a:rPr>
                <a:t>Software N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AutoShape 43"/>
            <p:cNvSpPr/>
            <p:nvPr/>
          </p:nvSpPr>
          <p:spPr>
            <a:xfrm>
              <a:off x="4496760" y="1831320"/>
              <a:ext cx="1447200" cy="1551240"/>
            </a:xfrm>
            <a:custGeom>
              <a:avLst/>
              <a:gdLst>
                <a:gd name="textAreaLeft" fmla="*/ 70560 w 1447200"/>
                <a:gd name="textAreaRight" fmla="*/ 1376640 w 1447200"/>
                <a:gd name="textAreaTop" fmla="*/ 70560 h 1551240"/>
                <a:gd name="textAreaBottom" fmla="*/ 1480680 h 1551240"/>
              </a:gdLst>
              <a:ahLst/>
              <a:rect l="textAreaLeft" t="textAreaTop" r="textAreaRight" b="textAreaBottom"/>
              <a:pathLst>
                <a:path w="21600" h="23152">
                  <a:moveTo>
                    <a:pt x="3600" y="0"/>
                  </a:moveTo>
                  <a:arcTo wR="3600" hR="3600" stAng="16200000" swAng="-5400000"/>
                  <a:lnTo>
                    <a:pt x="0" y="19552"/>
                  </a:lnTo>
                  <a:arcTo wR="3600" hR="3600" stAng="10800000" swAng="-5400000"/>
                  <a:lnTo>
                    <a:pt x="18000" y="2315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32a0da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fbb0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200" rIns="97200" tIns="48600" bIns="486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44"/>
            <p:cNvSpPr/>
            <p:nvPr/>
          </p:nvSpPr>
          <p:spPr>
            <a:xfrm>
              <a:off x="4758840" y="1851120"/>
              <a:ext cx="8787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45960"/>
                  <a:tab algn="l" pos="692280"/>
                  <a:tab algn="l" pos="1038240"/>
                  <a:tab algn="l" pos="1384200"/>
                  <a:tab algn="l" pos="1730520"/>
                  <a:tab algn="l" pos="2076480"/>
                  <a:tab algn="l" pos="2422440"/>
                  <a:tab algn="l" pos="2768760"/>
                  <a:tab algn="l" pos="3114720"/>
                  <a:tab algn="l" pos="3460680"/>
                  <a:tab algn="l" pos="3807000"/>
                  <a:tab algn="l" pos="4152960"/>
                  <a:tab algn="l" pos="4498920"/>
                  <a:tab algn="l" pos="4844880"/>
                  <a:tab algn="l" pos="5191200"/>
                  <a:tab algn="l" pos="5537160"/>
                  <a:tab algn="l" pos="5883120"/>
                  <a:tab algn="l" pos="6229440"/>
                  <a:tab algn="l" pos="6575400"/>
                  <a:tab algn="l" pos="692136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Slav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4" name="Picture 45" descr="Logo_ST"/>
            <p:cNvPicPr/>
            <p:nvPr/>
          </p:nvPicPr>
          <p:blipFill>
            <a:blip r:embed="rId3"/>
            <a:stretch/>
          </p:blipFill>
          <p:spPr>
            <a:xfrm>
              <a:off x="4879800" y="2338200"/>
              <a:ext cx="651600" cy="50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AutoShape 46"/>
            <p:cNvSpPr/>
            <p:nvPr/>
          </p:nvSpPr>
          <p:spPr>
            <a:xfrm flipV="1">
              <a:off x="4782960" y="3336480"/>
              <a:ext cx="96480" cy="9972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-360 h 99720"/>
                <a:gd name="textAreaBottom" fmla="*/ 99720 h 99720"/>
              </a:gdLst>
              <a:ahLst/>
              <a:rect l="textAreaLeft" t="textAreaTop" r="textAreaRight" b="textAreaBottom"/>
              <a:pathLst>
                <a:path w="21600" h="22323">
                  <a:moveTo>
                    <a:pt x="0" y="0"/>
                  </a:moveTo>
                  <a:arcTo wR="0" hR="0" stAng="16200000" swAng="-5400000"/>
                  <a:lnTo>
                    <a:pt x="0" y="22323"/>
                  </a:lnTo>
                  <a:arcTo wR="0" hR="0" stAng="10800000" swAng="-5400000"/>
                  <a:lnTo>
                    <a:pt x="21600" y="22323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AutoShape 47"/>
            <p:cNvSpPr/>
            <p:nvPr/>
          </p:nvSpPr>
          <p:spPr>
            <a:xfrm flipV="1">
              <a:off x="5056920" y="3342960"/>
              <a:ext cx="96840" cy="10008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360 h 100080"/>
                <a:gd name="textAreaBottom" fmla="*/ 100800 h 100080"/>
              </a:gdLst>
              <a:ahLst/>
              <a:rect l="textAreaLeft" t="textAreaTop" r="textAreaRight" b="textAreaBottom"/>
              <a:pathLst>
                <a:path w="21600" h="22320">
                  <a:moveTo>
                    <a:pt x="0" y="0"/>
                  </a:moveTo>
                  <a:arcTo wR="0" hR="0" stAng="16200000" swAng="-5400000"/>
                  <a:lnTo>
                    <a:pt x="0" y="22320"/>
                  </a:lnTo>
                  <a:arcTo wR="0" hR="0" stAng="10800000" swAng="-5400000"/>
                  <a:lnTo>
                    <a:pt x="21600" y="2232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AutoShape 48"/>
            <p:cNvSpPr/>
            <p:nvPr/>
          </p:nvSpPr>
          <p:spPr>
            <a:xfrm flipV="1">
              <a:off x="5339160" y="3350160"/>
              <a:ext cx="96840" cy="9972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-360 h 99720"/>
                <a:gd name="textAreaBottom" fmla="*/ 99720 h 99720"/>
              </a:gdLst>
              <a:ahLst/>
              <a:rect l="textAreaLeft" t="textAreaTop" r="textAreaRight" b="textAreaBottom"/>
              <a:pathLst>
                <a:path w="21600" h="22240">
                  <a:moveTo>
                    <a:pt x="0" y="0"/>
                  </a:moveTo>
                  <a:arcTo wR="0" hR="0" stAng="16200000" swAng="-5400000"/>
                  <a:lnTo>
                    <a:pt x="0" y="22240"/>
                  </a:lnTo>
                  <a:arcTo wR="0" hR="0" stAng="10800000" swAng="-5400000"/>
                  <a:lnTo>
                    <a:pt x="21600" y="2224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49"/>
            <p:cNvSpPr/>
            <p:nvPr/>
          </p:nvSpPr>
          <p:spPr>
            <a:xfrm>
              <a:off x="4682160" y="3170880"/>
              <a:ext cx="36288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45960"/>
                  <a:tab algn="l" pos="692280"/>
                  <a:tab algn="l" pos="1038240"/>
                  <a:tab algn="l" pos="1384200"/>
                  <a:tab algn="l" pos="1730520"/>
                  <a:tab algn="l" pos="2076480"/>
                  <a:tab algn="l" pos="2422440"/>
                  <a:tab algn="l" pos="2768760"/>
                  <a:tab algn="l" pos="3114720"/>
                  <a:tab algn="l" pos="3460680"/>
                  <a:tab algn="l" pos="3807000"/>
                  <a:tab algn="l" pos="4152960"/>
                  <a:tab algn="l" pos="4498920"/>
                  <a:tab algn="l" pos="4844880"/>
                  <a:tab algn="l" pos="5191200"/>
                  <a:tab algn="l" pos="5537160"/>
                  <a:tab algn="l" pos="5883120"/>
                  <a:tab algn="l" pos="6229440"/>
                  <a:tab algn="l" pos="6575400"/>
                  <a:tab algn="l" pos="692136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SCK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50"/>
            <p:cNvSpPr/>
            <p:nvPr/>
          </p:nvSpPr>
          <p:spPr>
            <a:xfrm>
              <a:off x="4937760" y="3175200"/>
              <a:ext cx="38412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45960"/>
                  <a:tab algn="l" pos="692280"/>
                  <a:tab algn="l" pos="1038240"/>
                  <a:tab algn="l" pos="1384200"/>
                  <a:tab algn="l" pos="1730520"/>
                  <a:tab algn="l" pos="2076480"/>
                  <a:tab algn="l" pos="2422440"/>
                  <a:tab algn="l" pos="2768760"/>
                  <a:tab algn="l" pos="3114720"/>
                  <a:tab algn="l" pos="3460680"/>
                  <a:tab algn="l" pos="3807000"/>
                  <a:tab algn="l" pos="4152960"/>
                  <a:tab algn="l" pos="4498920"/>
                  <a:tab algn="l" pos="4844880"/>
                  <a:tab algn="l" pos="5191200"/>
                  <a:tab algn="l" pos="5537160"/>
                  <a:tab algn="l" pos="5883120"/>
                  <a:tab algn="l" pos="6229440"/>
                  <a:tab algn="l" pos="6575400"/>
                  <a:tab algn="l" pos="692136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MIS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51"/>
            <p:cNvSpPr/>
            <p:nvPr/>
          </p:nvSpPr>
          <p:spPr>
            <a:xfrm>
              <a:off x="5235840" y="3169080"/>
              <a:ext cx="34128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45960"/>
                  <a:tab algn="l" pos="692280"/>
                  <a:tab algn="l" pos="1038240"/>
                  <a:tab algn="l" pos="1384200"/>
                  <a:tab algn="l" pos="1730520"/>
                  <a:tab algn="l" pos="2076480"/>
                  <a:tab algn="l" pos="2422440"/>
                  <a:tab algn="l" pos="2768760"/>
                  <a:tab algn="l" pos="3114720"/>
                  <a:tab algn="l" pos="3460680"/>
                  <a:tab algn="l" pos="3807000"/>
                  <a:tab algn="l" pos="4152960"/>
                  <a:tab algn="l" pos="4498920"/>
                  <a:tab algn="l" pos="4844880"/>
                  <a:tab algn="l" pos="5191200"/>
                  <a:tab algn="l" pos="5537160"/>
                  <a:tab algn="l" pos="5883120"/>
                  <a:tab algn="l" pos="6229440"/>
                  <a:tab algn="l" pos="6575400"/>
                  <a:tab algn="l" pos="692136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MOS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52"/>
            <p:cNvSpPr/>
            <p:nvPr/>
          </p:nvSpPr>
          <p:spPr>
            <a:xfrm>
              <a:off x="5541120" y="3170880"/>
              <a:ext cx="34128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45960"/>
                  <a:tab algn="l" pos="692280"/>
                  <a:tab algn="l" pos="1038240"/>
                  <a:tab algn="l" pos="1384200"/>
                  <a:tab algn="l" pos="1730520"/>
                  <a:tab algn="l" pos="2076480"/>
                  <a:tab algn="l" pos="2422440"/>
                  <a:tab algn="l" pos="2768760"/>
                  <a:tab algn="l" pos="3114720"/>
                  <a:tab algn="l" pos="3460680"/>
                  <a:tab algn="l" pos="3807000"/>
                  <a:tab algn="l" pos="4152960"/>
                  <a:tab algn="l" pos="4498920"/>
                  <a:tab algn="l" pos="4844880"/>
                  <a:tab algn="l" pos="5191200"/>
                  <a:tab algn="l" pos="5537160"/>
                  <a:tab algn="l" pos="5883120"/>
                  <a:tab algn="l" pos="6229440"/>
                  <a:tab algn="l" pos="6575400"/>
                  <a:tab algn="l" pos="692136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NS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AutoShape 53"/>
            <p:cNvSpPr/>
            <p:nvPr/>
          </p:nvSpPr>
          <p:spPr>
            <a:xfrm flipV="1">
              <a:off x="4492800" y="4189320"/>
              <a:ext cx="1447560" cy="1550880"/>
            </a:xfrm>
            <a:custGeom>
              <a:avLst/>
              <a:gdLst>
                <a:gd name="textAreaLeft" fmla="*/ 70560 w 1447560"/>
                <a:gd name="textAreaRight" fmla="*/ 1377000 w 1447560"/>
                <a:gd name="textAreaTop" fmla="*/ 70560 h 1550880"/>
                <a:gd name="textAreaBottom" fmla="*/ 1480320 h 1550880"/>
              </a:gdLst>
              <a:ahLst/>
              <a:rect l="textAreaLeft" t="textAreaTop" r="textAreaRight" b="textAreaBottom"/>
              <a:pathLst>
                <a:path w="21600" h="23141">
                  <a:moveTo>
                    <a:pt x="3600" y="0"/>
                  </a:moveTo>
                  <a:arcTo wR="3600" hR="3600" stAng="16200000" swAng="-5400000"/>
                  <a:lnTo>
                    <a:pt x="0" y="19541"/>
                  </a:lnTo>
                  <a:arcTo wR="3600" hR="3600" stAng="10800000" swAng="-5400000"/>
                  <a:lnTo>
                    <a:pt x="18000" y="2314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33cccc">
                    <a:alpha val="10196"/>
                  </a:srgbClr>
                </a:gs>
                <a:gs pos="100000">
                  <a:srgbClr val="baeeee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200" rIns="97200" tIns="48600" bIns="486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54"/>
            <p:cNvSpPr/>
            <p:nvPr/>
          </p:nvSpPr>
          <p:spPr>
            <a:xfrm>
              <a:off x="4754880" y="5418000"/>
              <a:ext cx="878760" cy="30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45960"/>
                  <a:tab algn="l" pos="692280"/>
                  <a:tab algn="l" pos="1038240"/>
                  <a:tab algn="l" pos="1384200"/>
                  <a:tab algn="l" pos="1730520"/>
                  <a:tab algn="l" pos="2076480"/>
                  <a:tab algn="l" pos="2422440"/>
                  <a:tab algn="l" pos="2768760"/>
                  <a:tab algn="l" pos="3114720"/>
                  <a:tab algn="l" pos="3460680"/>
                  <a:tab algn="l" pos="3807000"/>
                  <a:tab algn="l" pos="4152960"/>
                  <a:tab algn="l" pos="4498920"/>
                  <a:tab algn="l" pos="4844880"/>
                  <a:tab algn="l" pos="5191200"/>
                  <a:tab algn="l" pos="5537160"/>
                  <a:tab algn="l" pos="5883120"/>
                  <a:tab algn="l" pos="6229440"/>
                  <a:tab algn="l" pos="6575400"/>
                  <a:tab algn="l" pos="692136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Mas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4" name="Picture 55" descr="Logo_ST"/>
            <p:cNvPicPr/>
            <p:nvPr/>
          </p:nvPicPr>
          <p:blipFill>
            <a:blip r:embed="rId4"/>
            <a:stretch/>
          </p:blipFill>
          <p:spPr>
            <a:xfrm>
              <a:off x="4875840" y="4729680"/>
              <a:ext cx="651600" cy="5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AutoShape 56"/>
            <p:cNvSpPr/>
            <p:nvPr/>
          </p:nvSpPr>
          <p:spPr>
            <a:xfrm>
              <a:off x="4779000" y="4134960"/>
              <a:ext cx="96480" cy="9972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21600" h="22323">
                  <a:moveTo>
                    <a:pt x="0" y="0"/>
                  </a:moveTo>
                  <a:arcTo wR="0" hR="0" stAng="16200000" swAng="-5400000"/>
                  <a:lnTo>
                    <a:pt x="0" y="22323"/>
                  </a:lnTo>
                  <a:arcTo wR="0" hR="0" stAng="10800000" swAng="-5400000"/>
                  <a:lnTo>
                    <a:pt x="21600" y="22323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57"/>
            <p:cNvSpPr/>
            <p:nvPr/>
          </p:nvSpPr>
          <p:spPr>
            <a:xfrm>
              <a:off x="5052960" y="4128840"/>
              <a:ext cx="96840" cy="9972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21600" h="22240">
                  <a:moveTo>
                    <a:pt x="0" y="0"/>
                  </a:moveTo>
                  <a:arcTo wR="0" hR="0" stAng="16200000" swAng="-5400000"/>
                  <a:lnTo>
                    <a:pt x="0" y="22240"/>
                  </a:lnTo>
                  <a:arcTo wR="0" hR="0" stAng="10800000" swAng="-5400000"/>
                  <a:lnTo>
                    <a:pt x="21600" y="2224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58"/>
            <p:cNvSpPr/>
            <p:nvPr/>
          </p:nvSpPr>
          <p:spPr>
            <a:xfrm>
              <a:off x="5335200" y="4121280"/>
              <a:ext cx="96840" cy="9972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21600" h="22240">
                  <a:moveTo>
                    <a:pt x="0" y="0"/>
                  </a:moveTo>
                  <a:arcTo wR="0" hR="0" stAng="16200000" swAng="-5400000"/>
                  <a:lnTo>
                    <a:pt x="0" y="22240"/>
                  </a:lnTo>
                  <a:arcTo wR="0" hR="0" stAng="10800000" swAng="-5400000"/>
                  <a:lnTo>
                    <a:pt x="21600" y="2224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59"/>
            <p:cNvSpPr/>
            <p:nvPr/>
          </p:nvSpPr>
          <p:spPr>
            <a:xfrm>
              <a:off x="4665960" y="4287600"/>
              <a:ext cx="36288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45960"/>
                  <a:tab algn="l" pos="692280"/>
                  <a:tab algn="l" pos="1038240"/>
                  <a:tab algn="l" pos="1384200"/>
                  <a:tab algn="l" pos="1730520"/>
                  <a:tab algn="l" pos="2076480"/>
                  <a:tab algn="l" pos="2422440"/>
                  <a:tab algn="l" pos="2768760"/>
                  <a:tab algn="l" pos="3114720"/>
                  <a:tab algn="l" pos="3460680"/>
                  <a:tab algn="l" pos="3807000"/>
                  <a:tab algn="l" pos="4152960"/>
                  <a:tab algn="l" pos="4498920"/>
                  <a:tab algn="l" pos="4844880"/>
                  <a:tab algn="l" pos="5191200"/>
                  <a:tab algn="l" pos="5537160"/>
                  <a:tab algn="l" pos="5883120"/>
                  <a:tab algn="l" pos="6229440"/>
                  <a:tab algn="l" pos="6575400"/>
                  <a:tab algn="l" pos="692136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SCK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60"/>
            <p:cNvSpPr/>
            <p:nvPr/>
          </p:nvSpPr>
          <p:spPr>
            <a:xfrm>
              <a:off x="4933800" y="4291920"/>
              <a:ext cx="38412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45960"/>
                  <a:tab algn="l" pos="692280"/>
                  <a:tab algn="l" pos="1038240"/>
                  <a:tab algn="l" pos="1384200"/>
                  <a:tab algn="l" pos="1730520"/>
                  <a:tab algn="l" pos="2076480"/>
                  <a:tab algn="l" pos="2422440"/>
                  <a:tab algn="l" pos="2768760"/>
                  <a:tab algn="l" pos="3114720"/>
                  <a:tab algn="l" pos="3460680"/>
                  <a:tab algn="l" pos="3807000"/>
                  <a:tab algn="l" pos="4152960"/>
                  <a:tab algn="l" pos="4498920"/>
                  <a:tab algn="l" pos="4844880"/>
                  <a:tab algn="l" pos="5191200"/>
                  <a:tab algn="l" pos="5537160"/>
                  <a:tab algn="l" pos="5883120"/>
                  <a:tab algn="l" pos="6229440"/>
                  <a:tab algn="l" pos="6575400"/>
                  <a:tab algn="l" pos="692136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MIS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61"/>
            <p:cNvSpPr/>
            <p:nvPr/>
          </p:nvSpPr>
          <p:spPr>
            <a:xfrm>
              <a:off x="5220000" y="4286160"/>
              <a:ext cx="34128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45960"/>
                  <a:tab algn="l" pos="692280"/>
                  <a:tab algn="l" pos="1038240"/>
                  <a:tab algn="l" pos="1384200"/>
                  <a:tab algn="l" pos="1730520"/>
                  <a:tab algn="l" pos="2076480"/>
                  <a:tab algn="l" pos="2422440"/>
                  <a:tab algn="l" pos="2768760"/>
                  <a:tab algn="l" pos="3114720"/>
                  <a:tab algn="l" pos="3460680"/>
                  <a:tab algn="l" pos="3807000"/>
                  <a:tab algn="l" pos="4152960"/>
                  <a:tab algn="l" pos="4498920"/>
                  <a:tab algn="l" pos="4844880"/>
                  <a:tab algn="l" pos="5191200"/>
                  <a:tab algn="l" pos="5537160"/>
                  <a:tab algn="l" pos="5883120"/>
                  <a:tab algn="l" pos="6229440"/>
                  <a:tab algn="l" pos="6575400"/>
                  <a:tab algn="l" pos="692136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MOS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62"/>
            <p:cNvSpPr/>
            <p:nvPr/>
          </p:nvSpPr>
          <p:spPr>
            <a:xfrm>
              <a:off x="5524920" y="4287600"/>
              <a:ext cx="34128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45960"/>
                  <a:tab algn="l" pos="692280"/>
                  <a:tab algn="l" pos="1038240"/>
                  <a:tab algn="l" pos="1384200"/>
                  <a:tab algn="l" pos="1730520"/>
                  <a:tab algn="l" pos="2076480"/>
                  <a:tab algn="l" pos="2422440"/>
                  <a:tab algn="l" pos="2768760"/>
                  <a:tab algn="l" pos="3114720"/>
                  <a:tab algn="l" pos="3460680"/>
                  <a:tab algn="l" pos="3807000"/>
                  <a:tab algn="l" pos="4152960"/>
                  <a:tab algn="l" pos="4498920"/>
                  <a:tab algn="l" pos="4844880"/>
                  <a:tab algn="l" pos="5191200"/>
                  <a:tab algn="l" pos="5537160"/>
                  <a:tab algn="l" pos="5883120"/>
                  <a:tab algn="l" pos="6229440"/>
                  <a:tab algn="l" pos="6575400"/>
                  <a:tab algn="l" pos="692136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NS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63"/>
            <p:cNvSpPr/>
            <p:nvPr/>
          </p:nvSpPr>
          <p:spPr>
            <a:xfrm>
              <a:off x="4823280" y="3443400"/>
              <a:ext cx="0" cy="69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64"/>
            <p:cNvSpPr/>
            <p:nvPr/>
          </p:nvSpPr>
          <p:spPr>
            <a:xfrm>
              <a:off x="5097600" y="3443400"/>
              <a:ext cx="0" cy="69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65"/>
            <p:cNvSpPr/>
            <p:nvPr/>
          </p:nvSpPr>
          <p:spPr>
            <a:xfrm>
              <a:off x="5375520" y="3456720"/>
              <a:ext cx="0" cy="66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AutoShape 66"/>
          <p:cNvSpPr/>
          <p:nvPr/>
        </p:nvSpPr>
        <p:spPr>
          <a:xfrm flipV="1">
            <a:off x="5600880" y="3343320"/>
            <a:ext cx="96480" cy="100080"/>
          </a:xfrm>
          <a:custGeom>
            <a:avLst/>
            <a:gdLst>
              <a:gd name="textAreaLeft" fmla="*/ 0 w 96480"/>
              <a:gd name="textAreaRight" fmla="*/ 96840 w 96480"/>
              <a:gd name="textAreaTop" fmla="*/ 360 h 100080"/>
              <a:gd name="textAreaBottom" fmla="*/ 100800 h 100080"/>
            </a:gdLst>
            <a:ahLst/>
            <a:rect l="textAreaLeft" t="textAreaTop" r="textAreaRight" b="textAreaBottom"/>
            <a:pathLst>
              <a:path w="21600" h="22403">
                <a:moveTo>
                  <a:pt x="0" y="0"/>
                </a:moveTo>
                <a:arcTo wR="0" hR="0" stAng="16200000" swAng="-5400000"/>
                <a:lnTo>
                  <a:pt x="0" y="22403"/>
                </a:lnTo>
                <a:arcTo wR="0" hR="0" stAng="10800000" swAng="-5400000"/>
                <a:lnTo>
                  <a:pt x="21600" y="22403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67"/>
          <p:cNvSpPr/>
          <p:nvPr/>
        </p:nvSpPr>
        <p:spPr>
          <a:xfrm>
            <a:off x="5597640" y="4129200"/>
            <a:ext cx="96840" cy="100080"/>
          </a:xfrm>
          <a:custGeom>
            <a:avLst/>
            <a:gdLst>
              <a:gd name="textAreaLeft" fmla="*/ 0 w 96840"/>
              <a:gd name="textAreaRight" fmla="*/ 97200 w 96840"/>
              <a:gd name="textAreaTop" fmla="*/ 0 h 100080"/>
              <a:gd name="textAreaBottom" fmla="*/ 100440 h 100080"/>
            </a:gdLst>
            <a:ahLst/>
            <a:rect l="textAreaLeft" t="textAreaTop" r="textAreaRight" b="textAreaBottom"/>
            <a:pathLst>
              <a:path w="21600" h="22320">
                <a:moveTo>
                  <a:pt x="0" y="0"/>
                </a:moveTo>
                <a:arcTo wR="0" hR="0" stAng="16200000" swAng="-5400000"/>
                <a:lnTo>
                  <a:pt x="0" y="22320"/>
                </a:lnTo>
                <a:arcTo wR="0" hR="0" stAng="10800000" swAng="-5400000"/>
                <a:lnTo>
                  <a:pt x="21600" y="22320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68"/>
          <p:cNvSpPr/>
          <p:nvPr/>
        </p:nvSpPr>
        <p:spPr>
          <a:xfrm>
            <a:off x="6121440" y="2125800"/>
            <a:ext cx="2849400" cy="32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 marL="304920" indent="-304920">
              <a:lnSpc>
                <a:spcPct val="140000"/>
              </a:lnSpc>
              <a:spcBef>
                <a:spcPts val="601"/>
              </a:spcBef>
              <a:buSzPct val="103006"/>
              <a:buBlip>
                <a:blip r:embed="rId5"/>
              </a:buBlip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h Master and Slave NSS pins could be used for other purp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140000"/>
              </a:lnSpc>
              <a:spcBef>
                <a:spcPts val="601"/>
              </a:spcBef>
              <a:buSzPct val="103006"/>
              <a:buBlip>
                <a:blip r:embed="rId6"/>
              </a:buBlip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140000"/>
              </a:lnSpc>
              <a:spcBef>
                <a:spcPts val="601"/>
              </a:spcBef>
              <a:buSzPct val="103006"/>
              <a:buBlip>
                <a:blip r:embed="rId7"/>
              </a:buBlip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vides the possibility of dynamic change of Master/Slave operations: No hardware limitation to switch from master to slave or slave to master in the same 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528e"/>
                </a:solidFill>
                <a:latin typeface="Arial"/>
              </a:rPr>
              <a:t>CRC Calculation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1012680" y="3197160"/>
            <a:ext cx="51624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i="1" lang="fr-FR" sz="1100" spc="-1" strike="noStrike">
                <a:solidFill>
                  <a:srgbClr val="fbb034"/>
                </a:solidFill>
                <a:latin typeface="Times New Roman"/>
              </a:rPr>
              <a:t>MOS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990720" y="4813200"/>
            <a:ext cx="51408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i="1" lang="fr-FR" sz="1100" spc="-1" strike="noStrike">
                <a:solidFill>
                  <a:srgbClr val="fbb034"/>
                </a:solidFill>
                <a:latin typeface="Times New Roman"/>
              </a:rPr>
              <a:t>SC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676440" y="1533600"/>
            <a:ext cx="739296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 marL="304920" indent="-304920">
              <a:lnSpc>
                <a:spcPct val="100000"/>
              </a:lnSpc>
              <a:spcBef>
                <a:spcPts val="799"/>
              </a:spcBef>
              <a:buSzPct val="102837"/>
              <a:buBlip>
                <a:blip r:embed="rId1"/>
              </a:buBlip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ample of n data transfer between two SPIs followed by the CRC transmission of each one in Full-duplex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6"/>
          <p:cNvSpPr/>
          <p:nvPr/>
        </p:nvSpPr>
        <p:spPr>
          <a:xfrm flipV="1">
            <a:off x="1706400" y="4765680"/>
            <a:ext cx="0" cy="32688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7"/>
          <p:cNvSpPr/>
          <p:nvPr/>
        </p:nvSpPr>
        <p:spPr>
          <a:xfrm>
            <a:off x="1706400" y="4765680"/>
            <a:ext cx="5112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8"/>
          <p:cNvSpPr/>
          <p:nvPr/>
        </p:nvSpPr>
        <p:spPr>
          <a:xfrm>
            <a:off x="1757520" y="4765680"/>
            <a:ext cx="0" cy="32688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9"/>
          <p:cNvSpPr/>
          <p:nvPr/>
        </p:nvSpPr>
        <p:spPr>
          <a:xfrm>
            <a:off x="1758960" y="5092560"/>
            <a:ext cx="4752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0"/>
          <p:cNvSpPr/>
          <p:nvPr/>
        </p:nvSpPr>
        <p:spPr>
          <a:xfrm flipV="1">
            <a:off x="1809720" y="4765680"/>
            <a:ext cx="0" cy="32688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11"/>
          <p:cNvSpPr/>
          <p:nvPr/>
        </p:nvSpPr>
        <p:spPr>
          <a:xfrm>
            <a:off x="1809720" y="4765680"/>
            <a:ext cx="4608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2"/>
          <p:cNvSpPr/>
          <p:nvPr/>
        </p:nvSpPr>
        <p:spPr>
          <a:xfrm>
            <a:off x="1855800" y="4765680"/>
            <a:ext cx="0" cy="32688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3"/>
          <p:cNvSpPr/>
          <p:nvPr/>
        </p:nvSpPr>
        <p:spPr>
          <a:xfrm>
            <a:off x="1860480" y="5099040"/>
            <a:ext cx="4752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4"/>
          <p:cNvSpPr/>
          <p:nvPr/>
        </p:nvSpPr>
        <p:spPr>
          <a:xfrm flipV="1">
            <a:off x="1908000" y="4770000"/>
            <a:ext cx="0" cy="32724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5"/>
          <p:cNvSpPr/>
          <p:nvPr/>
        </p:nvSpPr>
        <p:spPr>
          <a:xfrm>
            <a:off x="1908000" y="4770360"/>
            <a:ext cx="4788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6"/>
          <p:cNvSpPr/>
          <p:nvPr/>
        </p:nvSpPr>
        <p:spPr>
          <a:xfrm>
            <a:off x="1955880" y="4770360"/>
            <a:ext cx="0" cy="32724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7"/>
          <p:cNvSpPr/>
          <p:nvPr/>
        </p:nvSpPr>
        <p:spPr>
          <a:xfrm>
            <a:off x="1959120" y="5097600"/>
            <a:ext cx="4752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8"/>
          <p:cNvSpPr/>
          <p:nvPr/>
        </p:nvSpPr>
        <p:spPr>
          <a:xfrm flipV="1">
            <a:off x="2009880" y="4770000"/>
            <a:ext cx="0" cy="32724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9"/>
          <p:cNvSpPr/>
          <p:nvPr/>
        </p:nvSpPr>
        <p:spPr>
          <a:xfrm>
            <a:off x="2009880" y="4770360"/>
            <a:ext cx="4608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20"/>
          <p:cNvSpPr/>
          <p:nvPr/>
        </p:nvSpPr>
        <p:spPr>
          <a:xfrm>
            <a:off x="2055960" y="4770360"/>
            <a:ext cx="0" cy="32724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21"/>
          <p:cNvSpPr/>
          <p:nvPr/>
        </p:nvSpPr>
        <p:spPr>
          <a:xfrm>
            <a:off x="2057400" y="5097600"/>
            <a:ext cx="5076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22"/>
          <p:cNvSpPr/>
          <p:nvPr/>
        </p:nvSpPr>
        <p:spPr>
          <a:xfrm flipV="1">
            <a:off x="2108160" y="4768920"/>
            <a:ext cx="0" cy="32544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23"/>
          <p:cNvSpPr/>
          <p:nvPr/>
        </p:nvSpPr>
        <p:spPr>
          <a:xfrm>
            <a:off x="2108160" y="4768920"/>
            <a:ext cx="4752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24"/>
          <p:cNvSpPr/>
          <p:nvPr/>
        </p:nvSpPr>
        <p:spPr>
          <a:xfrm>
            <a:off x="2155680" y="4768920"/>
            <a:ext cx="0" cy="32544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25"/>
          <p:cNvSpPr/>
          <p:nvPr/>
        </p:nvSpPr>
        <p:spPr>
          <a:xfrm>
            <a:off x="2158920" y="5094360"/>
            <a:ext cx="4608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26"/>
          <p:cNvSpPr/>
          <p:nvPr/>
        </p:nvSpPr>
        <p:spPr>
          <a:xfrm flipV="1">
            <a:off x="2208240" y="4768920"/>
            <a:ext cx="0" cy="32544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7"/>
          <p:cNvSpPr/>
          <p:nvPr/>
        </p:nvSpPr>
        <p:spPr>
          <a:xfrm>
            <a:off x="2208240" y="4768920"/>
            <a:ext cx="4932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28"/>
          <p:cNvSpPr/>
          <p:nvPr/>
        </p:nvSpPr>
        <p:spPr>
          <a:xfrm>
            <a:off x="2257560" y="4768920"/>
            <a:ext cx="0" cy="32544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29"/>
          <p:cNvSpPr/>
          <p:nvPr/>
        </p:nvSpPr>
        <p:spPr>
          <a:xfrm>
            <a:off x="2259000" y="5094360"/>
            <a:ext cx="4932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30"/>
          <p:cNvSpPr/>
          <p:nvPr/>
        </p:nvSpPr>
        <p:spPr>
          <a:xfrm flipV="1">
            <a:off x="2308320" y="4772160"/>
            <a:ext cx="0" cy="32688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31"/>
          <p:cNvSpPr/>
          <p:nvPr/>
        </p:nvSpPr>
        <p:spPr>
          <a:xfrm>
            <a:off x="2308320" y="4772160"/>
            <a:ext cx="4608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32"/>
          <p:cNvSpPr/>
          <p:nvPr/>
        </p:nvSpPr>
        <p:spPr>
          <a:xfrm>
            <a:off x="2354400" y="4772160"/>
            <a:ext cx="0" cy="32688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33"/>
          <p:cNvSpPr/>
          <p:nvPr/>
        </p:nvSpPr>
        <p:spPr>
          <a:xfrm>
            <a:off x="2357280" y="5099040"/>
            <a:ext cx="4932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34"/>
          <p:cNvSpPr/>
          <p:nvPr/>
        </p:nvSpPr>
        <p:spPr>
          <a:xfrm flipV="1">
            <a:off x="2408400" y="4772160"/>
            <a:ext cx="0" cy="32688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35"/>
          <p:cNvSpPr/>
          <p:nvPr/>
        </p:nvSpPr>
        <p:spPr>
          <a:xfrm>
            <a:off x="2408400" y="4772160"/>
            <a:ext cx="4752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36"/>
          <p:cNvSpPr/>
          <p:nvPr/>
        </p:nvSpPr>
        <p:spPr>
          <a:xfrm>
            <a:off x="2455920" y="4772160"/>
            <a:ext cx="0" cy="32688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37"/>
          <p:cNvSpPr/>
          <p:nvPr/>
        </p:nvSpPr>
        <p:spPr>
          <a:xfrm>
            <a:off x="2459160" y="5099040"/>
            <a:ext cx="4752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38"/>
          <p:cNvSpPr/>
          <p:nvPr/>
        </p:nvSpPr>
        <p:spPr>
          <a:xfrm>
            <a:off x="1012680" y="3994200"/>
            <a:ext cx="51624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i="1" lang="fr-FR" sz="1100" spc="-1" strike="noStrike">
                <a:solidFill>
                  <a:srgbClr val="fbb034"/>
                </a:solidFill>
                <a:latin typeface="Times New Roman"/>
              </a:rPr>
              <a:t>MIS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39"/>
          <p:cNvSpPr/>
          <p:nvPr/>
        </p:nvSpPr>
        <p:spPr>
          <a:xfrm>
            <a:off x="6215040" y="2651040"/>
            <a:ext cx="26701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>
              <a:lnSpc>
                <a:spcPct val="150000"/>
              </a:lnSpc>
              <a:spcBef>
                <a:spcPts val="20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Taken from SPI1 TXCRC register and sent to SPI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40"/>
          <p:cNvSpPr/>
          <p:nvPr/>
        </p:nvSpPr>
        <p:spPr>
          <a:xfrm flipH="1">
            <a:off x="6031080" y="2857680"/>
            <a:ext cx="23328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41"/>
          <p:cNvSpPr/>
          <p:nvPr/>
        </p:nvSpPr>
        <p:spPr>
          <a:xfrm flipH="1">
            <a:off x="6043320" y="3660840"/>
            <a:ext cx="23004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42"/>
          <p:cNvSpPr/>
          <p:nvPr/>
        </p:nvSpPr>
        <p:spPr>
          <a:xfrm>
            <a:off x="6224760" y="3449520"/>
            <a:ext cx="26701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>
              <a:lnSpc>
                <a:spcPct val="150000"/>
              </a:lnSpc>
              <a:spcBef>
                <a:spcPts val="20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Taken from SPI2 TXCRC register and sent to SPI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43"/>
          <p:cNvSpPr/>
          <p:nvPr/>
        </p:nvSpPr>
        <p:spPr>
          <a:xfrm flipV="1">
            <a:off x="2665440" y="4762080"/>
            <a:ext cx="0" cy="32868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44"/>
          <p:cNvSpPr/>
          <p:nvPr/>
        </p:nvSpPr>
        <p:spPr>
          <a:xfrm>
            <a:off x="2665440" y="4762440"/>
            <a:ext cx="4752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45"/>
          <p:cNvSpPr/>
          <p:nvPr/>
        </p:nvSpPr>
        <p:spPr>
          <a:xfrm>
            <a:off x="2712960" y="4762440"/>
            <a:ext cx="0" cy="32868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46"/>
          <p:cNvSpPr/>
          <p:nvPr/>
        </p:nvSpPr>
        <p:spPr>
          <a:xfrm>
            <a:off x="2714760" y="5091120"/>
            <a:ext cx="4896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47"/>
          <p:cNvSpPr/>
          <p:nvPr/>
        </p:nvSpPr>
        <p:spPr>
          <a:xfrm flipV="1">
            <a:off x="2765520" y="4762080"/>
            <a:ext cx="0" cy="32868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48"/>
          <p:cNvSpPr/>
          <p:nvPr/>
        </p:nvSpPr>
        <p:spPr>
          <a:xfrm>
            <a:off x="2765520" y="4762440"/>
            <a:ext cx="4896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49"/>
          <p:cNvSpPr/>
          <p:nvPr/>
        </p:nvSpPr>
        <p:spPr>
          <a:xfrm>
            <a:off x="2814480" y="4762440"/>
            <a:ext cx="0" cy="32868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50"/>
          <p:cNvSpPr/>
          <p:nvPr/>
        </p:nvSpPr>
        <p:spPr>
          <a:xfrm>
            <a:off x="2817720" y="5095800"/>
            <a:ext cx="4608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51"/>
          <p:cNvSpPr/>
          <p:nvPr/>
        </p:nvSpPr>
        <p:spPr>
          <a:xfrm flipV="1">
            <a:off x="2863800" y="4768920"/>
            <a:ext cx="0" cy="32544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52"/>
          <p:cNvSpPr/>
          <p:nvPr/>
        </p:nvSpPr>
        <p:spPr>
          <a:xfrm>
            <a:off x="2863800" y="4768920"/>
            <a:ext cx="4932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53"/>
          <p:cNvSpPr/>
          <p:nvPr/>
        </p:nvSpPr>
        <p:spPr>
          <a:xfrm>
            <a:off x="2913120" y="4768920"/>
            <a:ext cx="0" cy="32544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54"/>
          <p:cNvSpPr/>
          <p:nvPr/>
        </p:nvSpPr>
        <p:spPr>
          <a:xfrm>
            <a:off x="2914560" y="5094360"/>
            <a:ext cx="4932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55"/>
          <p:cNvSpPr/>
          <p:nvPr/>
        </p:nvSpPr>
        <p:spPr>
          <a:xfrm flipV="1">
            <a:off x="2967120" y="4768920"/>
            <a:ext cx="0" cy="32544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56"/>
          <p:cNvSpPr/>
          <p:nvPr/>
        </p:nvSpPr>
        <p:spPr>
          <a:xfrm>
            <a:off x="2967120" y="4768920"/>
            <a:ext cx="4608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57"/>
          <p:cNvSpPr/>
          <p:nvPr/>
        </p:nvSpPr>
        <p:spPr>
          <a:xfrm>
            <a:off x="3013200" y="4768920"/>
            <a:ext cx="0" cy="32544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58"/>
          <p:cNvSpPr/>
          <p:nvPr/>
        </p:nvSpPr>
        <p:spPr>
          <a:xfrm>
            <a:off x="3016080" y="5094360"/>
            <a:ext cx="4788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59"/>
          <p:cNvSpPr/>
          <p:nvPr/>
        </p:nvSpPr>
        <p:spPr>
          <a:xfrm flipV="1">
            <a:off x="3063960" y="4764240"/>
            <a:ext cx="0" cy="32688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60"/>
          <p:cNvSpPr/>
          <p:nvPr/>
        </p:nvSpPr>
        <p:spPr>
          <a:xfrm>
            <a:off x="3063960" y="4764240"/>
            <a:ext cx="4896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61"/>
          <p:cNvSpPr/>
          <p:nvPr/>
        </p:nvSpPr>
        <p:spPr>
          <a:xfrm>
            <a:off x="3112920" y="4764240"/>
            <a:ext cx="0" cy="32688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62"/>
          <p:cNvSpPr/>
          <p:nvPr/>
        </p:nvSpPr>
        <p:spPr>
          <a:xfrm>
            <a:off x="3116160" y="5091120"/>
            <a:ext cx="4788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63"/>
          <p:cNvSpPr/>
          <p:nvPr/>
        </p:nvSpPr>
        <p:spPr>
          <a:xfrm flipV="1">
            <a:off x="3165480" y="4764240"/>
            <a:ext cx="0" cy="32688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64"/>
          <p:cNvSpPr/>
          <p:nvPr/>
        </p:nvSpPr>
        <p:spPr>
          <a:xfrm>
            <a:off x="3165480" y="4764240"/>
            <a:ext cx="4752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65"/>
          <p:cNvSpPr/>
          <p:nvPr/>
        </p:nvSpPr>
        <p:spPr>
          <a:xfrm>
            <a:off x="3213000" y="4764240"/>
            <a:ext cx="0" cy="32688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66"/>
          <p:cNvSpPr/>
          <p:nvPr/>
        </p:nvSpPr>
        <p:spPr>
          <a:xfrm>
            <a:off x="3214800" y="5091120"/>
            <a:ext cx="5076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67"/>
          <p:cNvSpPr/>
          <p:nvPr/>
        </p:nvSpPr>
        <p:spPr>
          <a:xfrm flipV="1">
            <a:off x="3265560" y="4768920"/>
            <a:ext cx="0" cy="32688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68"/>
          <p:cNvSpPr/>
          <p:nvPr/>
        </p:nvSpPr>
        <p:spPr>
          <a:xfrm>
            <a:off x="3265560" y="4768920"/>
            <a:ext cx="4752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69"/>
          <p:cNvSpPr/>
          <p:nvPr/>
        </p:nvSpPr>
        <p:spPr>
          <a:xfrm>
            <a:off x="3313080" y="4768920"/>
            <a:ext cx="0" cy="32688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70"/>
          <p:cNvSpPr/>
          <p:nvPr/>
        </p:nvSpPr>
        <p:spPr>
          <a:xfrm>
            <a:off x="3314880" y="5095800"/>
            <a:ext cx="4752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71"/>
          <p:cNvSpPr/>
          <p:nvPr/>
        </p:nvSpPr>
        <p:spPr>
          <a:xfrm flipV="1">
            <a:off x="3365640" y="4768920"/>
            <a:ext cx="0" cy="32688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72"/>
          <p:cNvSpPr/>
          <p:nvPr/>
        </p:nvSpPr>
        <p:spPr>
          <a:xfrm>
            <a:off x="3365640" y="4768920"/>
            <a:ext cx="4752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73"/>
          <p:cNvSpPr/>
          <p:nvPr/>
        </p:nvSpPr>
        <p:spPr>
          <a:xfrm>
            <a:off x="3413160" y="4768920"/>
            <a:ext cx="0" cy="32688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74"/>
          <p:cNvSpPr/>
          <p:nvPr/>
        </p:nvSpPr>
        <p:spPr>
          <a:xfrm>
            <a:off x="3414600" y="5095800"/>
            <a:ext cx="4932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75"/>
          <p:cNvSpPr/>
          <p:nvPr/>
        </p:nvSpPr>
        <p:spPr>
          <a:xfrm>
            <a:off x="2482920" y="5097600"/>
            <a:ext cx="16992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76"/>
          <p:cNvSpPr/>
          <p:nvPr/>
        </p:nvSpPr>
        <p:spPr>
          <a:xfrm flipV="1">
            <a:off x="3618000" y="4762080"/>
            <a:ext cx="0" cy="32868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77"/>
          <p:cNvSpPr/>
          <p:nvPr/>
        </p:nvSpPr>
        <p:spPr>
          <a:xfrm>
            <a:off x="3618000" y="4762440"/>
            <a:ext cx="5076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78"/>
          <p:cNvSpPr/>
          <p:nvPr/>
        </p:nvSpPr>
        <p:spPr>
          <a:xfrm>
            <a:off x="3668760" y="4762440"/>
            <a:ext cx="0" cy="32868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79"/>
          <p:cNvSpPr/>
          <p:nvPr/>
        </p:nvSpPr>
        <p:spPr>
          <a:xfrm>
            <a:off x="3670200" y="5091120"/>
            <a:ext cx="4788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80"/>
          <p:cNvSpPr/>
          <p:nvPr/>
        </p:nvSpPr>
        <p:spPr>
          <a:xfrm flipV="1">
            <a:off x="3720960" y="4762080"/>
            <a:ext cx="0" cy="32868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81"/>
          <p:cNvSpPr/>
          <p:nvPr/>
        </p:nvSpPr>
        <p:spPr>
          <a:xfrm>
            <a:off x="3720960" y="4762440"/>
            <a:ext cx="4608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82"/>
          <p:cNvSpPr/>
          <p:nvPr/>
        </p:nvSpPr>
        <p:spPr>
          <a:xfrm>
            <a:off x="3767040" y="4762440"/>
            <a:ext cx="0" cy="32868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83"/>
          <p:cNvSpPr/>
          <p:nvPr/>
        </p:nvSpPr>
        <p:spPr>
          <a:xfrm>
            <a:off x="3772080" y="5095800"/>
            <a:ext cx="4752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84"/>
          <p:cNvSpPr/>
          <p:nvPr/>
        </p:nvSpPr>
        <p:spPr>
          <a:xfrm flipV="1">
            <a:off x="3819600" y="4768920"/>
            <a:ext cx="0" cy="32544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85"/>
          <p:cNvSpPr/>
          <p:nvPr/>
        </p:nvSpPr>
        <p:spPr>
          <a:xfrm>
            <a:off x="3819600" y="4768920"/>
            <a:ext cx="4752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86"/>
          <p:cNvSpPr/>
          <p:nvPr/>
        </p:nvSpPr>
        <p:spPr>
          <a:xfrm>
            <a:off x="3867120" y="4768920"/>
            <a:ext cx="0" cy="32544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87"/>
          <p:cNvSpPr/>
          <p:nvPr/>
        </p:nvSpPr>
        <p:spPr>
          <a:xfrm>
            <a:off x="3870360" y="5094360"/>
            <a:ext cx="4752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88"/>
          <p:cNvSpPr/>
          <p:nvPr/>
        </p:nvSpPr>
        <p:spPr>
          <a:xfrm flipV="1">
            <a:off x="3921120" y="4768920"/>
            <a:ext cx="0" cy="32544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89"/>
          <p:cNvSpPr/>
          <p:nvPr/>
        </p:nvSpPr>
        <p:spPr>
          <a:xfrm>
            <a:off x="3921120" y="4768920"/>
            <a:ext cx="4608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90"/>
          <p:cNvSpPr/>
          <p:nvPr/>
        </p:nvSpPr>
        <p:spPr>
          <a:xfrm>
            <a:off x="3967200" y="4768920"/>
            <a:ext cx="0" cy="32544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91"/>
          <p:cNvSpPr/>
          <p:nvPr/>
        </p:nvSpPr>
        <p:spPr>
          <a:xfrm>
            <a:off x="3968640" y="5094360"/>
            <a:ext cx="5076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92"/>
          <p:cNvSpPr/>
          <p:nvPr/>
        </p:nvSpPr>
        <p:spPr>
          <a:xfrm flipV="1">
            <a:off x="4019400" y="4764240"/>
            <a:ext cx="0" cy="32688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93"/>
          <p:cNvSpPr/>
          <p:nvPr/>
        </p:nvSpPr>
        <p:spPr>
          <a:xfrm>
            <a:off x="4019400" y="4764240"/>
            <a:ext cx="4788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94"/>
          <p:cNvSpPr/>
          <p:nvPr/>
        </p:nvSpPr>
        <p:spPr>
          <a:xfrm>
            <a:off x="4067280" y="4764240"/>
            <a:ext cx="0" cy="32688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95"/>
          <p:cNvSpPr/>
          <p:nvPr/>
        </p:nvSpPr>
        <p:spPr>
          <a:xfrm>
            <a:off x="4070520" y="5091120"/>
            <a:ext cx="4572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96"/>
          <p:cNvSpPr/>
          <p:nvPr/>
        </p:nvSpPr>
        <p:spPr>
          <a:xfrm flipV="1">
            <a:off x="4119480" y="4764240"/>
            <a:ext cx="0" cy="32688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97"/>
          <p:cNvSpPr/>
          <p:nvPr/>
        </p:nvSpPr>
        <p:spPr>
          <a:xfrm>
            <a:off x="4119480" y="4764240"/>
            <a:ext cx="4932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98"/>
          <p:cNvSpPr/>
          <p:nvPr/>
        </p:nvSpPr>
        <p:spPr>
          <a:xfrm>
            <a:off x="4168800" y="4764240"/>
            <a:ext cx="0" cy="32688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99"/>
          <p:cNvSpPr/>
          <p:nvPr/>
        </p:nvSpPr>
        <p:spPr>
          <a:xfrm>
            <a:off x="4170240" y="5091120"/>
            <a:ext cx="4932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100"/>
          <p:cNvSpPr/>
          <p:nvPr/>
        </p:nvSpPr>
        <p:spPr>
          <a:xfrm flipV="1">
            <a:off x="4219560" y="4768920"/>
            <a:ext cx="0" cy="32688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101"/>
          <p:cNvSpPr/>
          <p:nvPr/>
        </p:nvSpPr>
        <p:spPr>
          <a:xfrm>
            <a:off x="4219560" y="4768920"/>
            <a:ext cx="4608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102"/>
          <p:cNvSpPr/>
          <p:nvPr/>
        </p:nvSpPr>
        <p:spPr>
          <a:xfrm>
            <a:off x="4265640" y="4768920"/>
            <a:ext cx="0" cy="32688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103"/>
          <p:cNvSpPr/>
          <p:nvPr/>
        </p:nvSpPr>
        <p:spPr>
          <a:xfrm>
            <a:off x="4268880" y="5095800"/>
            <a:ext cx="4896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104"/>
          <p:cNvSpPr/>
          <p:nvPr/>
        </p:nvSpPr>
        <p:spPr>
          <a:xfrm flipV="1">
            <a:off x="4321080" y="4768920"/>
            <a:ext cx="0" cy="32688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105"/>
          <p:cNvSpPr/>
          <p:nvPr/>
        </p:nvSpPr>
        <p:spPr>
          <a:xfrm>
            <a:off x="4321080" y="4768920"/>
            <a:ext cx="4608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106"/>
          <p:cNvSpPr/>
          <p:nvPr/>
        </p:nvSpPr>
        <p:spPr>
          <a:xfrm>
            <a:off x="4367160" y="4768920"/>
            <a:ext cx="0" cy="32688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107"/>
          <p:cNvSpPr/>
          <p:nvPr/>
        </p:nvSpPr>
        <p:spPr>
          <a:xfrm flipV="1">
            <a:off x="4541760" y="4758840"/>
            <a:ext cx="0" cy="32724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108"/>
          <p:cNvSpPr/>
          <p:nvPr/>
        </p:nvSpPr>
        <p:spPr>
          <a:xfrm>
            <a:off x="4541760" y="4759200"/>
            <a:ext cx="4788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109"/>
          <p:cNvSpPr/>
          <p:nvPr/>
        </p:nvSpPr>
        <p:spPr>
          <a:xfrm>
            <a:off x="4589640" y="4759200"/>
            <a:ext cx="0" cy="32724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110"/>
          <p:cNvSpPr/>
          <p:nvPr/>
        </p:nvSpPr>
        <p:spPr>
          <a:xfrm>
            <a:off x="4591080" y="5086440"/>
            <a:ext cx="4932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111"/>
          <p:cNvSpPr/>
          <p:nvPr/>
        </p:nvSpPr>
        <p:spPr>
          <a:xfrm flipV="1">
            <a:off x="4641840" y="4758840"/>
            <a:ext cx="0" cy="32724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112"/>
          <p:cNvSpPr/>
          <p:nvPr/>
        </p:nvSpPr>
        <p:spPr>
          <a:xfrm>
            <a:off x="4641840" y="4759200"/>
            <a:ext cx="4932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13"/>
          <p:cNvSpPr/>
          <p:nvPr/>
        </p:nvSpPr>
        <p:spPr>
          <a:xfrm>
            <a:off x="4691160" y="4759200"/>
            <a:ext cx="0" cy="32724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114"/>
          <p:cNvSpPr/>
          <p:nvPr/>
        </p:nvSpPr>
        <p:spPr>
          <a:xfrm>
            <a:off x="4694400" y="5092560"/>
            <a:ext cx="4572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115"/>
          <p:cNvSpPr/>
          <p:nvPr/>
        </p:nvSpPr>
        <p:spPr>
          <a:xfrm flipV="1">
            <a:off x="4740120" y="4764240"/>
            <a:ext cx="0" cy="32688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116"/>
          <p:cNvSpPr/>
          <p:nvPr/>
        </p:nvSpPr>
        <p:spPr>
          <a:xfrm>
            <a:off x="4740120" y="4764240"/>
            <a:ext cx="4932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117"/>
          <p:cNvSpPr/>
          <p:nvPr/>
        </p:nvSpPr>
        <p:spPr>
          <a:xfrm>
            <a:off x="4789440" y="4764240"/>
            <a:ext cx="0" cy="32688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118"/>
          <p:cNvSpPr/>
          <p:nvPr/>
        </p:nvSpPr>
        <p:spPr>
          <a:xfrm>
            <a:off x="4791240" y="5091120"/>
            <a:ext cx="4896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119"/>
          <p:cNvSpPr/>
          <p:nvPr/>
        </p:nvSpPr>
        <p:spPr>
          <a:xfrm flipV="1">
            <a:off x="4843440" y="4764240"/>
            <a:ext cx="0" cy="32688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20"/>
          <p:cNvSpPr/>
          <p:nvPr/>
        </p:nvSpPr>
        <p:spPr>
          <a:xfrm>
            <a:off x="4843440" y="4764240"/>
            <a:ext cx="4752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121"/>
          <p:cNvSpPr/>
          <p:nvPr/>
        </p:nvSpPr>
        <p:spPr>
          <a:xfrm>
            <a:off x="4890960" y="4764240"/>
            <a:ext cx="0" cy="32688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122"/>
          <p:cNvSpPr/>
          <p:nvPr/>
        </p:nvSpPr>
        <p:spPr>
          <a:xfrm>
            <a:off x="4892760" y="5091120"/>
            <a:ext cx="4752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123"/>
          <p:cNvSpPr/>
          <p:nvPr/>
        </p:nvSpPr>
        <p:spPr>
          <a:xfrm flipV="1">
            <a:off x="4940280" y="4761000"/>
            <a:ext cx="0" cy="32688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124"/>
          <p:cNvSpPr/>
          <p:nvPr/>
        </p:nvSpPr>
        <p:spPr>
          <a:xfrm>
            <a:off x="4940280" y="4761000"/>
            <a:ext cx="4932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125"/>
          <p:cNvSpPr/>
          <p:nvPr/>
        </p:nvSpPr>
        <p:spPr>
          <a:xfrm>
            <a:off x="4989600" y="4761000"/>
            <a:ext cx="0" cy="32688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126"/>
          <p:cNvSpPr/>
          <p:nvPr/>
        </p:nvSpPr>
        <p:spPr>
          <a:xfrm>
            <a:off x="4992840" y="5087880"/>
            <a:ext cx="4752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127"/>
          <p:cNvSpPr/>
          <p:nvPr/>
        </p:nvSpPr>
        <p:spPr>
          <a:xfrm flipV="1">
            <a:off x="5041800" y="4761000"/>
            <a:ext cx="0" cy="32688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128"/>
          <p:cNvSpPr/>
          <p:nvPr/>
        </p:nvSpPr>
        <p:spPr>
          <a:xfrm>
            <a:off x="5041800" y="4761000"/>
            <a:ext cx="4788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129"/>
          <p:cNvSpPr/>
          <p:nvPr/>
        </p:nvSpPr>
        <p:spPr>
          <a:xfrm>
            <a:off x="5089680" y="4761000"/>
            <a:ext cx="0" cy="32688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30"/>
          <p:cNvSpPr/>
          <p:nvPr/>
        </p:nvSpPr>
        <p:spPr>
          <a:xfrm>
            <a:off x="5092560" y="5087880"/>
            <a:ext cx="4932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131"/>
          <p:cNvSpPr/>
          <p:nvPr/>
        </p:nvSpPr>
        <p:spPr>
          <a:xfrm flipV="1">
            <a:off x="5141880" y="4765680"/>
            <a:ext cx="0" cy="32688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132"/>
          <p:cNvSpPr/>
          <p:nvPr/>
        </p:nvSpPr>
        <p:spPr>
          <a:xfrm>
            <a:off x="5141880" y="4765680"/>
            <a:ext cx="4752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133"/>
          <p:cNvSpPr/>
          <p:nvPr/>
        </p:nvSpPr>
        <p:spPr>
          <a:xfrm>
            <a:off x="5189400" y="4765680"/>
            <a:ext cx="0" cy="32688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134"/>
          <p:cNvSpPr/>
          <p:nvPr/>
        </p:nvSpPr>
        <p:spPr>
          <a:xfrm>
            <a:off x="5191200" y="5092560"/>
            <a:ext cx="4752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135"/>
          <p:cNvSpPr/>
          <p:nvPr/>
        </p:nvSpPr>
        <p:spPr>
          <a:xfrm flipV="1">
            <a:off x="5241960" y="4765680"/>
            <a:ext cx="0" cy="32688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136"/>
          <p:cNvSpPr/>
          <p:nvPr/>
        </p:nvSpPr>
        <p:spPr>
          <a:xfrm>
            <a:off x="5241960" y="4765680"/>
            <a:ext cx="4752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137"/>
          <p:cNvSpPr/>
          <p:nvPr/>
        </p:nvSpPr>
        <p:spPr>
          <a:xfrm>
            <a:off x="5289480" y="4765680"/>
            <a:ext cx="0" cy="32688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138"/>
          <p:cNvSpPr/>
          <p:nvPr/>
        </p:nvSpPr>
        <p:spPr>
          <a:xfrm>
            <a:off x="3457440" y="5094360"/>
            <a:ext cx="16848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139"/>
          <p:cNvSpPr/>
          <p:nvPr/>
        </p:nvSpPr>
        <p:spPr>
          <a:xfrm>
            <a:off x="4371840" y="5100480"/>
            <a:ext cx="16992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140"/>
          <p:cNvSpPr/>
          <p:nvPr/>
        </p:nvSpPr>
        <p:spPr>
          <a:xfrm flipV="1">
            <a:off x="5456160" y="4753080"/>
            <a:ext cx="0" cy="32688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141"/>
          <p:cNvSpPr/>
          <p:nvPr/>
        </p:nvSpPr>
        <p:spPr>
          <a:xfrm>
            <a:off x="5456160" y="4753080"/>
            <a:ext cx="4608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142"/>
          <p:cNvSpPr/>
          <p:nvPr/>
        </p:nvSpPr>
        <p:spPr>
          <a:xfrm>
            <a:off x="5502240" y="4753080"/>
            <a:ext cx="0" cy="32688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143"/>
          <p:cNvSpPr/>
          <p:nvPr/>
        </p:nvSpPr>
        <p:spPr>
          <a:xfrm>
            <a:off x="5506920" y="5079960"/>
            <a:ext cx="4788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144"/>
          <p:cNvSpPr/>
          <p:nvPr/>
        </p:nvSpPr>
        <p:spPr>
          <a:xfrm flipV="1">
            <a:off x="5557680" y="4753080"/>
            <a:ext cx="0" cy="32688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145"/>
          <p:cNvSpPr/>
          <p:nvPr/>
        </p:nvSpPr>
        <p:spPr>
          <a:xfrm>
            <a:off x="5557680" y="4753080"/>
            <a:ext cx="4788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146"/>
          <p:cNvSpPr/>
          <p:nvPr/>
        </p:nvSpPr>
        <p:spPr>
          <a:xfrm>
            <a:off x="5605560" y="4753080"/>
            <a:ext cx="0" cy="32688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147"/>
          <p:cNvSpPr/>
          <p:nvPr/>
        </p:nvSpPr>
        <p:spPr>
          <a:xfrm>
            <a:off x="5607000" y="5086440"/>
            <a:ext cx="4932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148"/>
          <p:cNvSpPr/>
          <p:nvPr/>
        </p:nvSpPr>
        <p:spPr>
          <a:xfrm flipV="1">
            <a:off x="5656320" y="4757760"/>
            <a:ext cx="0" cy="32688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149"/>
          <p:cNvSpPr/>
          <p:nvPr/>
        </p:nvSpPr>
        <p:spPr>
          <a:xfrm>
            <a:off x="5656320" y="4757760"/>
            <a:ext cx="4608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150"/>
          <p:cNvSpPr/>
          <p:nvPr/>
        </p:nvSpPr>
        <p:spPr>
          <a:xfrm>
            <a:off x="5702400" y="4757760"/>
            <a:ext cx="0" cy="32688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151"/>
          <p:cNvSpPr/>
          <p:nvPr/>
        </p:nvSpPr>
        <p:spPr>
          <a:xfrm>
            <a:off x="5703840" y="5084640"/>
            <a:ext cx="5076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152"/>
          <p:cNvSpPr/>
          <p:nvPr/>
        </p:nvSpPr>
        <p:spPr>
          <a:xfrm flipV="1">
            <a:off x="5756400" y="4757760"/>
            <a:ext cx="0" cy="32688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153"/>
          <p:cNvSpPr/>
          <p:nvPr/>
        </p:nvSpPr>
        <p:spPr>
          <a:xfrm>
            <a:off x="5756400" y="4757760"/>
            <a:ext cx="4752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154"/>
          <p:cNvSpPr/>
          <p:nvPr/>
        </p:nvSpPr>
        <p:spPr>
          <a:xfrm>
            <a:off x="5803920" y="4757760"/>
            <a:ext cx="0" cy="32688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155"/>
          <p:cNvSpPr/>
          <p:nvPr/>
        </p:nvSpPr>
        <p:spPr>
          <a:xfrm>
            <a:off x="5807160" y="5084640"/>
            <a:ext cx="4608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156"/>
          <p:cNvSpPr/>
          <p:nvPr/>
        </p:nvSpPr>
        <p:spPr>
          <a:xfrm flipV="1">
            <a:off x="5853240" y="4754160"/>
            <a:ext cx="0" cy="32724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157"/>
          <p:cNvSpPr/>
          <p:nvPr/>
        </p:nvSpPr>
        <p:spPr>
          <a:xfrm>
            <a:off x="5853240" y="4754520"/>
            <a:ext cx="5076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158"/>
          <p:cNvSpPr/>
          <p:nvPr/>
        </p:nvSpPr>
        <p:spPr>
          <a:xfrm>
            <a:off x="5904000" y="4754520"/>
            <a:ext cx="0" cy="32724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159"/>
          <p:cNvSpPr/>
          <p:nvPr/>
        </p:nvSpPr>
        <p:spPr>
          <a:xfrm>
            <a:off x="5905440" y="5081760"/>
            <a:ext cx="4752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60"/>
          <p:cNvSpPr/>
          <p:nvPr/>
        </p:nvSpPr>
        <p:spPr>
          <a:xfrm flipV="1">
            <a:off x="5956200" y="4754160"/>
            <a:ext cx="0" cy="32724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161"/>
          <p:cNvSpPr/>
          <p:nvPr/>
        </p:nvSpPr>
        <p:spPr>
          <a:xfrm>
            <a:off x="5956200" y="4754520"/>
            <a:ext cx="4608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162"/>
          <p:cNvSpPr/>
          <p:nvPr/>
        </p:nvSpPr>
        <p:spPr>
          <a:xfrm>
            <a:off x="6002280" y="4754520"/>
            <a:ext cx="0" cy="32724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163"/>
          <p:cNvSpPr/>
          <p:nvPr/>
        </p:nvSpPr>
        <p:spPr>
          <a:xfrm>
            <a:off x="6006960" y="5081760"/>
            <a:ext cx="4788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164"/>
          <p:cNvSpPr/>
          <p:nvPr/>
        </p:nvSpPr>
        <p:spPr>
          <a:xfrm flipV="1">
            <a:off x="6054840" y="4758840"/>
            <a:ext cx="0" cy="32724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165"/>
          <p:cNvSpPr/>
          <p:nvPr/>
        </p:nvSpPr>
        <p:spPr>
          <a:xfrm>
            <a:off x="6054840" y="4759200"/>
            <a:ext cx="4752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66"/>
          <p:cNvSpPr/>
          <p:nvPr/>
        </p:nvSpPr>
        <p:spPr>
          <a:xfrm>
            <a:off x="6102360" y="4759200"/>
            <a:ext cx="0" cy="32724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167"/>
          <p:cNvSpPr/>
          <p:nvPr/>
        </p:nvSpPr>
        <p:spPr>
          <a:xfrm>
            <a:off x="6105600" y="5086440"/>
            <a:ext cx="4608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168"/>
          <p:cNvSpPr/>
          <p:nvPr/>
        </p:nvSpPr>
        <p:spPr>
          <a:xfrm flipV="1">
            <a:off x="6156360" y="4758840"/>
            <a:ext cx="0" cy="32724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169"/>
          <p:cNvSpPr/>
          <p:nvPr/>
        </p:nvSpPr>
        <p:spPr>
          <a:xfrm>
            <a:off x="6156360" y="4759200"/>
            <a:ext cx="4608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170"/>
          <p:cNvSpPr/>
          <p:nvPr/>
        </p:nvSpPr>
        <p:spPr>
          <a:xfrm>
            <a:off x="6202440" y="4759200"/>
            <a:ext cx="0" cy="32724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171"/>
          <p:cNvSpPr/>
          <p:nvPr/>
        </p:nvSpPr>
        <p:spPr>
          <a:xfrm>
            <a:off x="6203880" y="5086440"/>
            <a:ext cx="5076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172"/>
          <p:cNvSpPr/>
          <p:nvPr/>
        </p:nvSpPr>
        <p:spPr>
          <a:xfrm>
            <a:off x="5286240" y="5086440"/>
            <a:ext cx="16992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173"/>
          <p:cNvSpPr/>
          <p:nvPr/>
        </p:nvSpPr>
        <p:spPr>
          <a:xfrm>
            <a:off x="2563920" y="3197160"/>
            <a:ext cx="950760" cy="263520"/>
          </a:xfrm>
          <a:prstGeom prst="flowChartPreparation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bb0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Times New Roman"/>
              </a:rPr>
              <a:t>Data 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174"/>
          <p:cNvSpPr/>
          <p:nvPr/>
        </p:nvSpPr>
        <p:spPr>
          <a:xfrm>
            <a:off x="3503520" y="3197160"/>
            <a:ext cx="952560" cy="263520"/>
          </a:xfrm>
          <a:prstGeom prst="flowChartPreparation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bb0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175"/>
          <p:cNvSpPr/>
          <p:nvPr/>
        </p:nvSpPr>
        <p:spPr>
          <a:xfrm>
            <a:off x="4456080" y="3197160"/>
            <a:ext cx="952560" cy="263520"/>
          </a:xfrm>
          <a:prstGeom prst="flowChartPreparation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bb0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Times New Roman"/>
              </a:rPr>
              <a:t>Data 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176"/>
          <p:cNvSpPr/>
          <p:nvPr/>
        </p:nvSpPr>
        <p:spPr>
          <a:xfrm>
            <a:off x="5396040" y="3197160"/>
            <a:ext cx="952200" cy="263520"/>
          </a:xfrm>
          <a:prstGeom prst="flowChartPreparation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bb0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Times New Roman"/>
              </a:rPr>
              <a:t>CRC[1..n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177"/>
          <p:cNvSpPr/>
          <p:nvPr/>
        </p:nvSpPr>
        <p:spPr>
          <a:xfrm>
            <a:off x="1609560" y="3197160"/>
            <a:ext cx="954360" cy="263520"/>
          </a:xfrm>
          <a:prstGeom prst="flowChartPreparation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bb0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Times New Roman"/>
              </a:rPr>
              <a:t>Data 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178"/>
          <p:cNvSpPr/>
          <p:nvPr/>
        </p:nvSpPr>
        <p:spPr>
          <a:xfrm>
            <a:off x="2563920" y="3994200"/>
            <a:ext cx="950760" cy="264960"/>
          </a:xfrm>
          <a:prstGeom prst="flowChartPreparation">
            <a:avLst/>
          </a:prstGeom>
          <a:solidFill>
            <a:srgbClr val="8799c1">
              <a:alpha val="70000"/>
            </a:srgbClr>
          </a:solidFill>
          <a:ln w="9360">
            <a:solidFill>
              <a:srgbClr val="f3d8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Times New Roman"/>
              </a:rPr>
              <a:t>Data’ 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179"/>
          <p:cNvSpPr/>
          <p:nvPr/>
        </p:nvSpPr>
        <p:spPr>
          <a:xfrm>
            <a:off x="3503520" y="3994200"/>
            <a:ext cx="952560" cy="264960"/>
          </a:xfrm>
          <a:prstGeom prst="flowChartPreparation">
            <a:avLst/>
          </a:prstGeom>
          <a:solidFill>
            <a:srgbClr val="8799c1">
              <a:alpha val="70000"/>
            </a:srgbClr>
          </a:solidFill>
          <a:ln w="9360">
            <a:solidFill>
              <a:srgbClr val="f3d8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180"/>
          <p:cNvSpPr/>
          <p:nvPr/>
        </p:nvSpPr>
        <p:spPr>
          <a:xfrm>
            <a:off x="4456080" y="3994200"/>
            <a:ext cx="952560" cy="264960"/>
          </a:xfrm>
          <a:prstGeom prst="flowChartPreparation">
            <a:avLst/>
          </a:prstGeom>
          <a:solidFill>
            <a:srgbClr val="8799c1">
              <a:alpha val="70000"/>
            </a:srgbClr>
          </a:solidFill>
          <a:ln w="9360">
            <a:solidFill>
              <a:srgbClr val="f3d8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Times New Roman"/>
              </a:rPr>
              <a:t>Data’ 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181"/>
          <p:cNvSpPr/>
          <p:nvPr/>
        </p:nvSpPr>
        <p:spPr>
          <a:xfrm>
            <a:off x="5396040" y="3994200"/>
            <a:ext cx="952200" cy="264960"/>
          </a:xfrm>
          <a:prstGeom prst="flowChartPreparation">
            <a:avLst/>
          </a:prstGeom>
          <a:solidFill>
            <a:srgbClr val="8799c1">
              <a:alpha val="70000"/>
            </a:srgbClr>
          </a:solidFill>
          <a:ln w="9360">
            <a:solidFill>
              <a:srgbClr val="f3d8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Times New Roman"/>
              </a:rPr>
              <a:t>CRC’[1..n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182"/>
          <p:cNvSpPr/>
          <p:nvPr/>
        </p:nvSpPr>
        <p:spPr>
          <a:xfrm>
            <a:off x="1609560" y="3994200"/>
            <a:ext cx="954360" cy="264960"/>
          </a:xfrm>
          <a:prstGeom prst="flowChartPreparation">
            <a:avLst/>
          </a:prstGeom>
          <a:solidFill>
            <a:srgbClr val="8799c1">
              <a:alpha val="70000"/>
            </a:srgbClr>
          </a:solidFill>
          <a:ln w="9360">
            <a:solidFill>
              <a:srgbClr val="f3d8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Times New Roman"/>
              </a:rPr>
              <a:t>Data’ 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12:15:41Z</dcterms:created>
  <dc:creator>Xavier Mariaud</dc:creator>
  <dc:description/>
  <dc:language>en-US</dc:language>
  <cp:lastModifiedBy>hassen</cp:lastModifiedBy>
  <cp:lastPrinted>2009-12-10T10:33:55Z</cp:lastPrinted>
  <dcterms:modified xsi:type="dcterms:W3CDTF">2012-03-15T23:48:09Z</dcterms:modified>
  <cp:revision>166</cp:revision>
  <dc:subject/>
  <dc:title>STM32 Value line</dc:title>
</cp:coreProperties>
</file>